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2641-C79B-404D-B972-78976181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6FFD-4549-4213-A5CA-1EF5B2A8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92CB-BC5F-40B1-99C3-A01A0AE7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61C9-DC6C-440A-BBEF-ED3BE5BE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9F38-1296-4D99-85BE-0AB1A03D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08CD-7187-4D5D-A514-05DBC0CD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4776-CDC2-4AB4-8AA2-25D8FF01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728D-F766-44A7-90DF-A08B4129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D8F1-77B8-4E18-939B-F2F3A652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84A7-02EC-4B82-BE36-A2232E95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1F8E-F31B-41F7-9F6B-C84101AA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1F336-7D6E-4782-AFFD-8012E795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AAC5-FC1C-45F6-915A-55093D34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4B7B-606F-4E5A-A6FD-59F28408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8733-D956-48E9-AC0C-5641CED7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5822-B62D-4EA0-88B8-446FF6A2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E023-2B20-4BD7-BE51-B65C3773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95E3-0570-480D-BB9E-DAB091EB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EAF4-A69C-43F3-BC7E-CD78939A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FBD7A-C578-474E-B81C-4870EC3D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1C6B-C014-4B17-A44A-C3EA8A39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12FE5-9ACD-494B-9756-3719B075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71F7-29B5-4DF0-A38D-04E19B3D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9867-1915-4DC7-A70D-59D4DB80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CAP_prj.ex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DBB1-D019-4CBC-8930-CCEB6F60E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94560" y="0"/>
            <a:ext cx="1549440" cy="215748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673560" y="106200"/>
            <a:ext cx="40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 the mouse button to activate each presentation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7A2F-FC82-4A42-AAD9-9F9E44C57A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AP_prj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AP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yptographic Analysis Progra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ing a Permutation Cipher Help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127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94880" y="64771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nter or click on your mouse button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52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i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936800"/>
            <a:ext cx="764712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olygraphic cipher was developed by the mathematician Lester Hill in 1929 - called the Hill Cip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cessive plaintext letters and substitutes for them 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phertext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28600" y="6248520"/>
            <a:ext cx="1009800" cy="4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2B8A-F601-4D31-812E-59EF251386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51:43Z</dcterms:created>
  <dc:creator>Richard Spillman</dc:creator>
  <dc:description/>
  <dc:language>en-US</dc:language>
  <cp:lastModifiedBy>Richard Spillman</cp:lastModifiedBy>
  <dcterms:modified xsi:type="dcterms:W3CDTF">2004-03-04T01:33:02Z</dcterms:modified>
  <cp:revision>67</cp:revision>
  <dc:subject/>
  <dc:title>CAP Cryptographic Analysis Program</dc:title>
</cp:coreProperties>
</file>