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58270-ABBD-4F03-9F97-7691CB42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EA7F9-0DE7-4D5D-8B22-6FC83525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AEA70-09A3-4124-AA75-4291B17D9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C3469-1AAC-4CD5-905E-F410DB34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EC81-697B-4B65-9BA6-D3090AF86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2AE3-6FCB-4E3B-8BE7-A013C6F6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5D91-7589-49E9-94F3-20481775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D7EB-F266-40D4-AA44-931DFBB1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38C9-AD05-4358-8547-9FAD8A15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2A0C-AAD3-444D-895E-D1763434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3566-6A18-4240-99C5-027E4D64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C1560-CCE6-4E99-BC14-25F75423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82E4-F289-454F-8461-A92F8DAC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89FF-7B21-4D1F-828A-97C824FC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C2F5-A6A4-480D-B7C7-E767B48B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625F-23F1-4E4E-A089-C9795A33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89D6-41FC-4799-9750-A5AB2092A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1F2CC-9BA9-4BFD-9994-56E7ABB2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CA6E9-17F6-480B-B19B-288C1AA5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0CB9D-743C-44AE-8207-27851FB5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50BBA-AEB6-4220-A325-FBE7C778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E8ECF-671F-470F-817C-41EA2A4E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A3291-F904-49D7-8883-431E8FC0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F5481-79F2-4AC5-B376-0BF5CCF7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28A2-3B09-40B0-B6CA-3D1C901DCA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777A-3CE4-457B-A3E8-C62A865051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yword Cryptanalysis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Crypt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basic observation of cryptanalysis is that every letter of a language has a personality of its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very plaintext t is changed to a ciphertext m, then in the ciphertext, m assumes the personality of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trained observer, the personality of a letter gives away its ident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these personality characteristic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of occur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 with other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within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A7A06-166B-4BD3-82BA-394F375D17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English Frequency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Frequenc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 T  A  O  N  I  R  S 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um Frequenc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L U C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Frequenc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F Y W G B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 Gro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 K Q X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911760" y="4332240"/>
            <a:ext cx="4765680" cy="2286000"/>
            <a:chOff x="3911760" y="4332240"/>
            <a:chExt cx="4765680" cy="2286000"/>
          </a:xfrm>
        </p:grpSpPr>
        <p:sp>
          <p:nvSpPr>
            <p:cNvPr id="118" name=""/>
            <p:cNvSpPr/>
            <p:nvPr/>
          </p:nvSpPr>
          <p:spPr>
            <a:xfrm>
              <a:off x="3911760" y="4332240"/>
              <a:ext cx="4765680" cy="22860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88080" y="4484520"/>
              <a:ext cx="4537080" cy="20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There is usually a sharp brea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between the high and medium groups. That is, H is usually 6% and D is usually 4%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SO:  look for the break between the high and medium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68D5A-D402-4657-8376-D24121E567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 Frequency Rea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gs to look for in a frequency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are hills and valleys similar to standard English then the cipher is most likely a substitution, s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break between high frequency and medium frequency (look for a 2% drop between two let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frequent letter is probably “e” or at least “t” or “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B5FCC-A79C-46DA-88BF-76595DED01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Frequency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7840" y="1571760"/>
            <a:ext cx="8229600" cy="16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it is one of the most useful tools in cryptanalysis, CAP provides a frequency analysis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Frequency under the Basic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859040" y="3200400"/>
            <a:ext cx="4481280" cy="350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1EEDD-A1C1-4196-A1A2-C25C758A5A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quency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 will display the frequency in a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Graph menu and click on 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68440" y="3363840"/>
            <a:ext cx="7772400" cy="303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99433-9329-4C7C-9ED3-F80DD6B3E6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word Work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8360" y="19267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some possible substitutions test them using  the keyword worksheet to manually look for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16320" y="3411360"/>
            <a:ext cx="5128920" cy="344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8F6A2-47C4-445C-AE31-39B64DE32C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6T01:37:58Z</dcterms:modified>
  <cp:revision>51</cp:revision>
  <dc:subject/>
  <dc:title>CAP Cryptographic Analysis Program</dc:title>
</cp:coreProperties>
</file>