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4262D-3095-436B-8E73-6E4A528C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589F-F0A5-4875-9494-88D4633B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17F4-55CA-469C-886F-5476736C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AB05-BC9D-495C-A3BA-1D3751A6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00BB-711C-4401-A96E-DF82454B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077B-3F0F-485A-A0ED-9381411F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9DF2-84B7-47ED-B167-3018A133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ACDC-E4E6-48C8-BBA2-A2597B62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F15B-CEFA-423A-A890-F49A92E0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5565-9BEC-4A92-9958-507B22E3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296F-ECB7-4DD6-8BD4-C19F53DB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4AF4A-915F-4883-BB5D-A984B5D4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9BF2-B47D-46E3-844B-8983CBAE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6245-B2A5-4811-9567-2CC5444A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1604-AC6D-44A4-B38B-5FD20246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5455-DBC1-4DFB-9325-9E935150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9B19-28C7-40DD-A914-A5567F28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C89B3-3A77-45EF-B75B-FF52DC75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6D4B-740D-4620-9B96-AF43CF3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A7EE-BE5D-4ED5-9D1D-B1367633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8566-8530-4B03-84DB-F4F87438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B92B-ABF2-41EA-A413-D23E145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877E-7687-4BCA-830F-0748CBCF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E21D-9989-4839-9752-E8101229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768F-9773-43DF-9F7E-18D81F088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ADD1-AD41-49EA-AADE-CC4A54ECF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uble 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816768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uble column transposition cipher works just as the name impl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intext is enciphered using a column transposition and then the resulting ciphertext is enciphered again using a column trans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may the same for transpositions or it may be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is hopefully, a thorough mixing of the positions of the plaintext let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2B09-454F-4B34-B54F-33243DBBEC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pher the phrase “encryption algorithms” tw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" y="304308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ing the keyword next:  2-1-4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3200" y="4373640"/>
            <a:ext cx="1106640" cy="1659600"/>
            <a:chOff x="403200" y="4373640"/>
            <a:chExt cx="1106640" cy="1659600"/>
          </a:xfrm>
        </p:grpSpPr>
        <p:grpSp>
          <p:nvGrpSpPr>
            <p:cNvPr id="119" name=""/>
            <p:cNvGrpSpPr/>
            <p:nvPr/>
          </p:nvGrpSpPr>
          <p:grpSpPr>
            <a:xfrm>
              <a:off x="419400" y="4707000"/>
              <a:ext cx="1090440" cy="1326240"/>
              <a:chOff x="419400" y="4707000"/>
              <a:chExt cx="1090440" cy="132624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952920" y="4707000"/>
                <a:ext cx="280800" cy="1326240"/>
                <a:chOff x="952920" y="4707000"/>
                <a:chExt cx="280800" cy="13262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952920" y="4707000"/>
                  <a:ext cx="280800" cy="278280"/>
                  <a:chOff x="952920" y="4707000"/>
                  <a:chExt cx="280800" cy="27828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96696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95292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952920" y="4964400"/>
                  <a:ext cx="280800" cy="278280"/>
                  <a:chOff x="952920" y="4964400"/>
                  <a:chExt cx="280800" cy="278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96696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5292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952920" y="5230800"/>
                  <a:ext cx="280800" cy="278280"/>
                  <a:chOff x="952920" y="5230800"/>
                  <a:chExt cx="280800" cy="27828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96696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95292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952920" y="5497560"/>
                  <a:ext cx="280800" cy="278280"/>
                  <a:chOff x="952920" y="5497560"/>
                  <a:chExt cx="280800" cy="2782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96696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95292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952920" y="5754960"/>
                  <a:ext cx="280800" cy="278280"/>
                  <a:chOff x="952920" y="5754960"/>
                  <a:chExt cx="280800" cy="2782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96696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95292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1229040" y="4707000"/>
                <a:ext cx="280800" cy="1326240"/>
                <a:chOff x="1229040" y="4707000"/>
                <a:chExt cx="280800" cy="132624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1229040" y="4707000"/>
                  <a:ext cx="280800" cy="278280"/>
                  <a:chOff x="1229040" y="4707000"/>
                  <a:chExt cx="280800" cy="27828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124308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22904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1229040" y="4964400"/>
                  <a:ext cx="280800" cy="278280"/>
                  <a:chOff x="1229040" y="4964400"/>
                  <a:chExt cx="280800" cy="2782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124308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22904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1229040" y="5230800"/>
                  <a:ext cx="280800" cy="278280"/>
                  <a:chOff x="1229040" y="5230800"/>
                  <a:chExt cx="280800" cy="27828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124308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122904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1229040" y="5497560"/>
                  <a:ext cx="280800" cy="278280"/>
                  <a:chOff x="1229040" y="5497560"/>
                  <a:chExt cx="280800" cy="2782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24308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22904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I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1229040" y="5754960"/>
                  <a:ext cx="280800" cy="278280"/>
                  <a:chOff x="1229040" y="5754960"/>
                  <a:chExt cx="280800" cy="278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24308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22904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86160" y="4707000"/>
                <a:ext cx="280800" cy="1326240"/>
                <a:chOff x="686160" y="4707000"/>
                <a:chExt cx="280800" cy="132624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686160" y="4707000"/>
                  <a:ext cx="280800" cy="278280"/>
                  <a:chOff x="686160" y="4707000"/>
                  <a:chExt cx="280800" cy="2782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70020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8616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86160" y="4964400"/>
                  <a:ext cx="280800" cy="278280"/>
                  <a:chOff x="686160" y="4964400"/>
                  <a:chExt cx="280800" cy="2782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70020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8616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86160" y="5230800"/>
                  <a:ext cx="280800" cy="278280"/>
                  <a:chOff x="686160" y="5230800"/>
                  <a:chExt cx="280800" cy="2782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0020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8616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86160" y="5497560"/>
                  <a:ext cx="280800" cy="278280"/>
                  <a:chOff x="686160" y="5497560"/>
                  <a:chExt cx="280800" cy="2782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0020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8616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86160" y="5754960"/>
                  <a:ext cx="280800" cy="278280"/>
                  <a:chOff x="686160" y="5754960"/>
                  <a:chExt cx="280800" cy="27828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70020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8616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419400" y="4707000"/>
                <a:ext cx="280800" cy="1326240"/>
                <a:chOff x="419400" y="4707000"/>
                <a:chExt cx="280800" cy="132624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419400" y="4707000"/>
                  <a:ext cx="280800" cy="278280"/>
                  <a:chOff x="419400" y="4707000"/>
                  <a:chExt cx="280800" cy="2782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433440" y="47070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19400" y="47088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19400" y="4964400"/>
                  <a:ext cx="280800" cy="278280"/>
                  <a:chOff x="419400" y="4964400"/>
                  <a:chExt cx="280800" cy="2782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433440" y="49644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19400" y="49662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419400" y="5230800"/>
                  <a:ext cx="280800" cy="278280"/>
                  <a:chOff x="419400" y="5230800"/>
                  <a:chExt cx="280800" cy="2782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433440" y="523080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19400" y="523260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O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419400" y="5497560"/>
                  <a:ext cx="280800" cy="278280"/>
                  <a:chOff x="419400" y="5497560"/>
                  <a:chExt cx="280800" cy="2782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433440" y="54975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19400" y="54993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419400" y="5754960"/>
                  <a:ext cx="280800" cy="278280"/>
                  <a:chOff x="419400" y="5754960"/>
                  <a:chExt cx="280800" cy="2782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33440" y="5754960"/>
                    <a:ext cx="266760" cy="266760"/>
                  </a:xfrm>
                  <a:prstGeom prst="bevel">
                    <a:avLst>
                      <a:gd name="adj" fmla="val 12500"/>
                    </a:avLst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19400" y="5756760"/>
                    <a:ext cx="2721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urier New"/>
                      </a:rPr>
                      <a:t>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84" name=""/>
            <p:cNvGrpSpPr/>
            <p:nvPr/>
          </p:nvGrpSpPr>
          <p:grpSpPr>
            <a:xfrm>
              <a:off x="403200" y="4373640"/>
              <a:ext cx="1095480" cy="377640"/>
              <a:chOff x="403200" y="4373640"/>
              <a:chExt cx="1095480" cy="377640"/>
            </a:xfrm>
          </p:grpSpPr>
          <p:sp>
            <p:nvSpPr>
              <p:cNvPr id="185" name=""/>
              <p:cNvSpPr/>
              <p:nvPr/>
            </p:nvSpPr>
            <p:spPr>
              <a:xfrm>
                <a:off x="4032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9876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5580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20348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3726360" y="363384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d using the keyword image:  4-5-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6520" y="4707000"/>
            <a:ext cx="280440" cy="1325520"/>
            <a:chOff x="686520" y="4707000"/>
            <a:chExt cx="280440" cy="1325520"/>
          </a:xfrm>
        </p:grpSpPr>
        <p:grpSp>
          <p:nvGrpSpPr>
            <p:cNvPr id="191" name=""/>
            <p:cNvGrpSpPr/>
            <p:nvPr/>
          </p:nvGrpSpPr>
          <p:grpSpPr>
            <a:xfrm>
              <a:off x="686520" y="5754600"/>
              <a:ext cx="280440" cy="277920"/>
              <a:chOff x="686520" y="5754600"/>
              <a:chExt cx="280440" cy="277920"/>
            </a:xfrm>
          </p:grpSpPr>
          <p:sp>
            <p:nvSpPr>
              <p:cNvPr id="192" name=""/>
              <p:cNvSpPr/>
              <p:nvPr/>
            </p:nvSpPr>
            <p:spPr>
              <a:xfrm>
                <a:off x="700200" y="57546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86520" y="57560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86520" y="5487840"/>
              <a:ext cx="280440" cy="277920"/>
              <a:chOff x="686520" y="5487840"/>
              <a:chExt cx="280440" cy="277920"/>
            </a:xfrm>
          </p:grpSpPr>
          <p:sp>
            <p:nvSpPr>
              <p:cNvPr id="195" name=""/>
              <p:cNvSpPr/>
              <p:nvPr/>
            </p:nvSpPr>
            <p:spPr>
              <a:xfrm>
                <a:off x="700200" y="54878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6520" y="54892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86520" y="5221080"/>
              <a:ext cx="280440" cy="277920"/>
              <a:chOff x="686520" y="5221080"/>
              <a:chExt cx="280440" cy="277920"/>
            </a:xfrm>
          </p:grpSpPr>
          <p:sp>
            <p:nvSpPr>
              <p:cNvPr id="198" name=""/>
              <p:cNvSpPr/>
              <p:nvPr/>
            </p:nvSpPr>
            <p:spPr>
              <a:xfrm>
                <a:off x="700200" y="52210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65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86520" y="4973400"/>
              <a:ext cx="280440" cy="277920"/>
              <a:chOff x="686520" y="4973400"/>
              <a:chExt cx="280440" cy="277920"/>
            </a:xfrm>
          </p:grpSpPr>
          <p:sp>
            <p:nvSpPr>
              <p:cNvPr id="201" name=""/>
              <p:cNvSpPr/>
              <p:nvPr/>
            </p:nvSpPr>
            <p:spPr>
              <a:xfrm>
                <a:off x="700200" y="49734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6520" y="49748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86520" y="4707000"/>
              <a:ext cx="280440" cy="277920"/>
              <a:chOff x="686520" y="4707000"/>
              <a:chExt cx="280440" cy="277920"/>
            </a:xfrm>
          </p:grpSpPr>
          <p:sp>
            <p:nvSpPr>
              <p:cNvPr id="204" name=""/>
              <p:cNvSpPr/>
              <p:nvPr/>
            </p:nvSpPr>
            <p:spPr>
              <a:xfrm>
                <a:off x="700200" y="47070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6520" y="47084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2924640" y="4363920"/>
            <a:ext cx="1385280" cy="592200"/>
            <a:chOff x="2924640" y="4363920"/>
            <a:chExt cx="1385280" cy="592200"/>
          </a:xfrm>
        </p:grpSpPr>
        <p:grpSp>
          <p:nvGrpSpPr>
            <p:cNvPr id="207" name=""/>
            <p:cNvGrpSpPr/>
            <p:nvPr/>
          </p:nvGrpSpPr>
          <p:grpSpPr>
            <a:xfrm>
              <a:off x="2924640" y="4678200"/>
              <a:ext cx="1385280" cy="277920"/>
              <a:chOff x="2924640" y="4678200"/>
              <a:chExt cx="1385280" cy="2779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2924640" y="4678200"/>
                <a:ext cx="280440" cy="277920"/>
                <a:chOff x="2924640" y="4678200"/>
                <a:chExt cx="280440" cy="277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9383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9246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029480" y="4678200"/>
                <a:ext cx="280440" cy="277920"/>
                <a:chOff x="4029480" y="4678200"/>
                <a:chExt cx="280440" cy="277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04316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02948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753360" y="4678200"/>
                <a:ext cx="280440" cy="277920"/>
                <a:chOff x="3753360" y="4678200"/>
                <a:chExt cx="280440" cy="2779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7670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533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477240" y="4678200"/>
                <a:ext cx="280440" cy="277920"/>
                <a:chOff x="3477240" y="4678200"/>
                <a:chExt cx="280440" cy="2779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49092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47724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200760" y="4678200"/>
                <a:ext cx="280440" cy="277920"/>
                <a:chOff x="3200760" y="4678200"/>
                <a:chExt cx="280440" cy="2779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214440" y="4678200"/>
                  <a:ext cx="266760" cy="266400"/>
                </a:xfrm>
                <a:prstGeom prst="bevel">
                  <a:avLst>
                    <a:gd name="adj" fmla="val 12500"/>
                  </a:avLst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00760" y="467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2927160" y="4363920"/>
              <a:ext cx="1371600" cy="387360"/>
              <a:chOff x="2927160" y="4363920"/>
              <a:chExt cx="1371600" cy="387360"/>
            </a:xfrm>
          </p:grpSpPr>
          <p:sp>
            <p:nvSpPr>
              <p:cNvPr id="224" name=""/>
              <p:cNvSpPr/>
              <p:nvPr/>
            </p:nvSpPr>
            <p:spPr>
              <a:xfrm>
                <a:off x="29271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22360" y="43639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47940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27080" y="4373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03560" y="4383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924640" y="5478480"/>
            <a:ext cx="1385280" cy="277920"/>
            <a:chOff x="2924640" y="5478480"/>
            <a:chExt cx="1385280" cy="277920"/>
          </a:xfrm>
        </p:grpSpPr>
        <p:grpSp>
          <p:nvGrpSpPr>
            <p:cNvPr id="230" name=""/>
            <p:cNvGrpSpPr/>
            <p:nvPr/>
          </p:nvGrpSpPr>
          <p:grpSpPr>
            <a:xfrm>
              <a:off x="2924640" y="5478480"/>
              <a:ext cx="280440" cy="277920"/>
              <a:chOff x="2924640" y="5478480"/>
              <a:chExt cx="280440" cy="277920"/>
            </a:xfrm>
          </p:grpSpPr>
          <p:sp>
            <p:nvSpPr>
              <p:cNvPr id="231" name=""/>
              <p:cNvSpPr/>
              <p:nvPr/>
            </p:nvSpPr>
            <p:spPr>
              <a:xfrm>
                <a:off x="29383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246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029480" y="5478480"/>
              <a:ext cx="280440" cy="277920"/>
              <a:chOff x="4029480" y="5478480"/>
              <a:chExt cx="280440" cy="277920"/>
            </a:xfrm>
          </p:grpSpPr>
          <p:sp>
            <p:nvSpPr>
              <p:cNvPr id="234" name=""/>
              <p:cNvSpPr/>
              <p:nvPr/>
            </p:nvSpPr>
            <p:spPr>
              <a:xfrm>
                <a:off x="404316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2948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753360" y="5478480"/>
              <a:ext cx="280440" cy="277920"/>
              <a:chOff x="3753360" y="5478480"/>
              <a:chExt cx="280440" cy="277920"/>
            </a:xfrm>
          </p:grpSpPr>
          <p:sp>
            <p:nvSpPr>
              <p:cNvPr id="237" name=""/>
              <p:cNvSpPr/>
              <p:nvPr/>
            </p:nvSpPr>
            <p:spPr>
              <a:xfrm>
                <a:off x="37670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533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477240" y="5478480"/>
              <a:ext cx="280440" cy="277920"/>
              <a:chOff x="3477240" y="5478480"/>
              <a:chExt cx="280440" cy="277920"/>
            </a:xfrm>
          </p:grpSpPr>
          <p:sp>
            <p:nvSpPr>
              <p:cNvPr id="240" name=""/>
              <p:cNvSpPr/>
              <p:nvPr/>
            </p:nvSpPr>
            <p:spPr>
              <a:xfrm>
                <a:off x="349092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7724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200760" y="5478480"/>
              <a:ext cx="280440" cy="277920"/>
              <a:chOff x="3200760" y="5478480"/>
              <a:chExt cx="280440" cy="277920"/>
            </a:xfrm>
          </p:grpSpPr>
          <p:sp>
            <p:nvSpPr>
              <p:cNvPr id="243" name=""/>
              <p:cNvSpPr/>
              <p:nvPr/>
            </p:nvSpPr>
            <p:spPr>
              <a:xfrm>
                <a:off x="3214440" y="54784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00760" y="54799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 flipV="1">
            <a:off x="941400" y="4830480"/>
            <a:ext cx="189540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10040" y="4697280"/>
            <a:ext cx="280440" cy="1344960"/>
            <a:chOff x="410040" y="4697280"/>
            <a:chExt cx="280440" cy="1344960"/>
          </a:xfrm>
        </p:grpSpPr>
        <p:grpSp>
          <p:nvGrpSpPr>
            <p:cNvPr id="247" name=""/>
            <p:cNvGrpSpPr/>
            <p:nvPr/>
          </p:nvGrpSpPr>
          <p:grpSpPr>
            <a:xfrm>
              <a:off x="410040" y="5764320"/>
              <a:ext cx="280440" cy="277920"/>
              <a:chOff x="410040" y="5764320"/>
              <a:chExt cx="28044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2372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04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10040" y="5497560"/>
              <a:ext cx="280440" cy="277920"/>
              <a:chOff x="410040" y="5497560"/>
              <a:chExt cx="280440" cy="277920"/>
            </a:xfrm>
          </p:grpSpPr>
          <p:sp>
            <p:nvSpPr>
              <p:cNvPr id="251" name=""/>
              <p:cNvSpPr/>
              <p:nvPr/>
            </p:nvSpPr>
            <p:spPr>
              <a:xfrm>
                <a:off x="42372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04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10040" y="5230800"/>
              <a:ext cx="280440" cy="277920"/>
              <a:chOff x="410040" y="5230800"/>
              <a:chExt cx="280440" cy="277920"/>
            </a:xfrm>
          </p:grpSpPr>
          <p:sp>
            <p:nvSpPr>
              <p:cNvPr id="254" name=""/>
              <p:cNvSpPr/>
              <p:nvPr/>
            </p:nvSpPr>
            <p:spPr>
              <a:xfrm>
                <a:off x="42372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004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10040" y="4964040"/>
              <a:ext cx="280440" cy="277920"/>
              <a:chOff x="410040" y="4964040"/>
              <a:chExt cx="280440" cy="277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2372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004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10040" y="4697280"/>
              <a:ext cx="280440" cy="277920"/>
              <a:chOff x="410040" y="4697280"/>
              <a:chExt cx="280440" cy="277920"/>
            </a:xfrm>
          </p:grpSpPr>
          <p:sp>
            <p:nvSpPr>
              <p:cNvPr id="260" name=""/>
              <p:cNvSpPr/>
              <p:nvPr/>
            </p:nvSpPr>
            <p:spPr>
              <a:xfrm>
                <a:off x="42372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004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 flipV="1">
            <a:off x="636480" y="5049360"/>
            <a:ext cx="2181240" cy="181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24640" y="4954680"/>
            <a:ext cx="1385280" cy="277920"/>
            <a:chOff x="2924640" y="4954680"/>
            <a:chExt cx="1385280" cy="277920"/>
          </a:xfrm>
        </p:grpSpPr>
        <p:grpSp>
          <p:nvGrpSpPr>
            <p:cNvPr id="264" name=""/>
            <p:cNvGrpSpPr/>
            <p:nvPr/>
          </p:nvGrpSpPr>
          <p:grpSpPr>
            <a:xfrm>
              <a:off x="2924640" y="4954680"/>
              <a:ext cx="280440" cy="277920"/>
              <a:chOff x="2924640" y="4954680"/>
              <a:chExt cx="280440" cy="277920"/>
            </a:xfrm>
          </p:grpSpPr>
          <p:sp>
            <p:nvSpPr>
              <p:cNvPr id="265" name=""/>
              <p:cNvSpPr/>
              <p:nvPr/>
            </p:nvSpPr>
            <p:spPr>
              <a:xfrm>
                <a:off x="29383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246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29480" y="4954680"/>
              <a:ext cx="280440" cy="277920"/>
              <a:chOff x="4029480" y="4954680"/>
              <a:chExt cx="28044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404316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948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753360" y="4954680"/>
              <a:ext cx="280440" cy="277920"/>
              <a:chOff x="3753360" y="4954680"/>
              <a:chExt cx="28044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37670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533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477240" y="4954680"/>
              <a:ext cx="280440" cy="277920"/>
              <a:chOff x="3477240" y="4954680"/>
              <a:chExt cx="28044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349092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7724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200760" y="4954680"/>
              <a:ext cx="280440" cy="277920"/>
              <a:chOff x="3200760" y="4954680"/>
              <a:chExt cx="28044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3214440" y="49546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00760" y="49561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952920" y="4697280"/>
            <a:ext cx="280440" cy="1344960"/>
            <a:chOff x="952920" y="4697280"/>
            <a:chExt cx="280440" cy="1344960"/>
          </a:xfrm>
        </p:grpSpPr>
        <p:grpSp>
          <p:nvGrpSpPr>
            <p:cNvPr id="280" name=""/>
            <p:cNvGrpSpPr/>
            <p:nvPr/>
          </p:nvGrpSpPr>
          <p:grpSpPr>
            <a:xfrm>
              <a:off x="952920" y="5764320"/>
              <a:ext cx="280440" cy="277920"/>
              <a:chOff x="952920" y="5764320"/>
              <a:chExt cx="280440" cy="277920"/>
            </a:xfrm>
          </p:grpSpPr>
          <p:sp>
            <p:nvSpPr>
              <p:cNvPr id="281" name=""/>
              <p:cNvSpPr/>
              <p:nvPr/>
            </p:nvSpPr>
            <p:spPr>
              <a:xfrm>
                <a:off x="96660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5292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952920" y="5497560"/>
              <a:ext cx="280440" cy="277920"/>
              <a:chOff x="952920" y="5497560"/>
              <a:chExt cx="280440" cy="277920"/>
            </a:xfrm>
          </p:grpSpPr>
          <p:sp>
            <p:nvSpPr>
              <p:cNvPr id="284" name=""/>
              <p:cNvSpPr/>
              <p:nvPr/>
            </p:nvSpPr>
            <p:spPr>
              <a:xfrm>
                <a:off x="96660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5292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952920" y="5230800"/>
              <a:ext cx="280440" cy="277920"/>
              <a:chOff x="952920" y="5230800"/>
              <a:chExt cx="280440" cy="277920"/>
            </a:xfrm>
          </p:grpSpPr>
          <p:sp>
            <p:nvSpPr>
              <p:cNvPr id="287" name=""/>
              <p:cNvSpPr/>
              <p:nvPr/>
            </p:nvSpPr>
            <p:spPr>
              <a:xfrm>
                <a:off x="96660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5292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52920" y="4964040"/>
              <a:ext cx="280440" cy="277920"/>
              <a:chOff x="952920" y="4964040"/>
              <a:chExt cx="280440" cy="277920"/>
            </a:xfrm>
          </p:grpSpPr>
          <p:sp>
            <p:nvSpPr>
              <p:cNvPr id="290" name=""/>
              <p:cNvSpPr/>
              <p:nvPr/>
            </p:nvSpPr>
            <p:spPr>
              <a:xfrm>
                <a:off x="96660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5292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952920" y="4697280"/>
              <a:ext cx="280440" cy="277920"/>
              <a:chOff x="952920" y="4697280"/>
              <a:chExt cx="280440" cy="277920"/>
            </a:xfrm>
          </p:grpSpPr>
          <p:sp>
            <p:nvSpPr>
              <p:cNvPr id="293" name=""/>
              <p:cNvSpPr/>
              <p:nvPr/>
            </p:nvSpPr>
            <p:spPr>
              <a:xfrm>
                <a:off x="96660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5292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1229400" y="4697280"/>
            <a:ext cx="280440" cy="1344960"/>
            <a:chOff x="1229400" y="4697280"/>
            <a:chExt cx="280440" cy="1344960"/>
          </a:xfrm>
        </p:grpSpPr>
        <p:grpSp>
          <p:nvGrpSpPr>
            <p:cNvPr id="296" name=""/>
            <p:cNvGrpSpPr/>
            <p:nvPr/>
          </p:nvGrpSpPr>
          <p:grpSpPr>
            <a:xfrm>
              <a:off x="1229400" y="5764320"/>
              <a:ext cx="280440" cy="277920"/>
              <a:chOff x="1229400" y="5764320"/>
              <a:chExt cx="280440" cy="277920"/>
            </a:xfrm>
          </p:grpSpPr>
          <p:sp>
            <p:nvSpPr>
              <p:cNvPr id="297" name=""/>
              <p:cNvSpPr/>
              <p:nvPr/>
            </p:nvSpPr>
            <p:spPr>
              <a:xfrm>
                <a:off x="1243080" y="5764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29400" y="576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229400" y="5497560"/>
              <a:ext cx="280440" cy="277920"/>
              <a:chOff x="1229400" y="5497560"/>
              <a:chExt cx="280440" cy="277920"/>
            </a:xfrm>
          </p:grpSpPr>
          <p:sp>
            <p:nvSpPr>
              <p:cNvPr id="300" name=""/>
              <p:cNvSpPr/>
              <p:nvPr/>
            </p:nvSpPr>
            <p:spPr>
              <a:xfrm>
                <a:off x="1243080" y="54975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229400" y="54990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229400" y="5230800"/>
              <a:ext cx="280440" cy="277920"/>
              <a:chOff x="1229400" y="5230800"/>
              <a:chExt cx="280440" cy="277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243080" y="523080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29400" y="5232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229400" y="4964040"/>
              <a:ext cx="280440" cy="277920"/>
              <a:chOff x="1229400" y="4964040"/>
              <a:chExt cx="280440" cy="277920"/>
            </a:xfrm>
          </p:grpSpPr>
          <p:sp>
            <p:nvSpPr>
              <p:cNvPr id="306" name=""/>
              <p:cNvSpPr/>
              <p:nvPr/>
            </p:nvSpPr>
            <p:spPr>
              <a:xfrm>
                <a:off x="1243080" y="49640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229400" y="4965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1229400" y="4697280"/>
              <a:ext cx="280440" cy="277920"/>
              <a:chOff x="1229400" y="4697280"/>
              <a:chExt cx="280440" cy="277920"/>
            </a:xfrm>
          </p:grpSpPr>
          <p:sp>
            <p:nvSpPr>
              <p:cNvPr id="309" name=""/>
              <p:cNvSpPr/>
              <p:nvPr/>
            </p:nvSpPr>
            <p:spPr>
              <a:xfrm>
                <a:off x="1243080" y="469728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29400" y="46987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2924640" y="5221440"/>
            <a:ext cx="1385280" cy="277920"/>
            <a:chOff x="2924640" y="5221440"/>
            <a:chExt cx="1385280" cy="277920"/>
          </a:xfrm>
        </p:grpSpPr>
        <p:grpSp>
          <p:nvGrpSpPr>
            <p:cNvPr id="312" name=""/>
            <p:cNvGrpSpPr/>
            <p:nvPr/>
          </p:nvGrpSpPr>
          <p:grpSpPr>
            <a:xfrm>
              <a:off x="2924640" y="5221440"/>
              <a:ext cx="280440" cy="277920"/>
              <a:chOff x="2924640" y="5221440"/>
              <a:chExt cx="280440" cy="277920"/>
            </a:xfrm>
          </p:grpSpPr>
          <p:sp>
            <p:nvSpPr>
              <p:cNvPr id="313" name=""/>
              <p:cNvSpPr/>
              <p:nvPr/>
            </p:nvSpPr>
            <p:spPr>
              <a:xfrm>
                <a:off x="29383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46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4029480" y="5221440"/>
              <a:ext cx="280440" cy="277920"/>
              <a:chOff x="4029480" y="5221440"/>
              <a:chExt cx="280440" cy="277920"/>
            </a:xfrm>
          </p:grpSpPr>
          <p:sp>
            <p:nvSpPr>
              <p:cNvPr id="316" name=""/>
              <p:cNvSpPr/>
              <p:nvPr/>
            </p:nvSpPr>
            <p:spPr>
              <a:xfrm>
                <a:off x="404316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2948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753360" y="5221440"/>
              <a:ext cx="280440" cy="277920"/>
              <a:chOff x="3753360" y="5221440"/>
              <a:chExt cx="280440" cy="277920"/>
            </a:xfrm>
          </p:grpSpPr>
          <p:sp>
            <p:nvSpPr>
              <p:cNvPr id="319" name=""/>
              <p:cNvSpPr/>
              <p:nvPr/>
            </p:nvSpPr>
            <p:spPr>
              <a:xfrm>
                <a:off x="37670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533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477240" y="5221440"/>
              <a:ext cx="280440" cy="277920"/>
              <a:chOff x="3477240" y="5221440"/>
              <a:chExt cx="280440" cy="277920"/>
            </a:xfrm>
          </p:grpSpPr>
          <p:sp>
            <p:nvSpPr>
              <p:cNvPr id="322" name=""/>
              <p:cNvSpPr/>
              <p:nvPr/>
            </p:nvSpPr>
            <p:spPr>
              <a:xfrm>
                <a:off x="349092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7724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200760" y="5221440"/>
              <a:ext cx="280440" cy="277920"/>
              <a:chOff x="3200760" y="5221440"/>
              <a:chExt cx="280440" cy="277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214440" y="522144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00760" y="52228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 flipV="1">
            <a:off x="1465200" y="5306760"/>
            <a:ext cx="138132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08160" y="5611320"/>
            <a:ext cx="1628640" cy="190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200760" y="4687920"/>
            <a:ext cx="280800" cy="1068120"/>
            <a:chOff x="3200760" y="4687920"/>
            <a:chExt cx="280800" cy="1068120"/>
          </a:xfrm>
        </p:grpSpPr>
        <p:grpSp>
          <p:nvGrpSpPr>
            <p:cNvPr id="330" name=""/>
            <p:cNvGrpSpPr/>
            <p:nvPr/>
          </p:nvGrpSpPr>
          <p:grpSpPr>
            <a:xfrm>
              <a:off x="3200760" y="5478120"/>
              <a:ext cx="280800" cy="277920"/>
              <a:chOff x="3200760" y="5478120"/>
              <a:chExt cx="280800" cy="277920"/>
            </a:xfrm>
          </p:grpSpPr>
          <p:sp>
            <p:nvSpPr>
              <p:cNvPr id="331" name=""/>
              <p:cNvSpPr/>
              <p:nvPr/>
            </p:nvSpPr>
            <p:spPr>
              <a:xfrm>
                <a:off x="321480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0076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200760" y="5221080"/>
              <a:ext cx="280800" cy="277920"/>
              <a:chOff x="3200760" y="5221080"/>
              <a:chExt cx="280800" cy="277920"/>
            </a:xfrm>
          </p:grpSpPr>
          <p:sp>
            <p:nvSpPr>
              <p:cNvPr id="334" name=""/>
              <p:cNvSpPr/>
              <p:nvPr/>
            </p:nvSpPr>
            <p:spPr>
              <a:xfrm>
                <a:off x="321480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0076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200760" y="4954320"/>
              <a:ext cx="280800" cy="277920"/>
              <a:chOff x="3200760" y="4954320"/>
              <a:chExt cx="280800" cy="277920"/>
            </a:xfrm>
          </p:grpSpPr>
          <p:sp>
            <p:nvSpPr>
              <p:cNvPr id="337" name=""/>
              <p:cNvSpPr/>
              <p:nvPr/>
            </p:nvSpPr>
            <p:spPr>
              <a:xfrm>
                <a:off x="321480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0076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200760" y="4687920"/>
              <a:ext cx="280800" cy="277920"/>
              <a:chOff x="3200760" y="4687920"/>
              <a:chExt cx="280800" cy="277920"/>
            </a:xfrm>
          </p:grpSpPr>
          <p:sp>
            <p:nvSpPr>
              <p:cNvPr id="340" name=""/>
              <p:cNvSpPr/>
              <p:nvPr/>
            </p:nvSpPr>
            <p:spPr>
              <a:xfrm>
                <a:off x="321480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0076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753000" y="4687920"/>
            <a:ext cx="280800" cy="1068120"/>
            <a:chOff x="3753000" y="4687920"/>
            <a:chExt cx="280800" cy="1068120"/>
          </a:xfrm>
        </p:grpSpPr>
        <p:grpSp>
          <p:nvGrpSpPr>
            <p:cNvPr id="343" name=""/>
            <p:cNvGrpSpPr/>
            <p:nvPr/>
          </p:nvGrpSpPr>
          <p:grpSpPr>
            <a:xfrm>
              <a:off x="3753000" y="5478120"/>
              <a:ext cx="280800" cy="277920"/>
              <a:chOff x="3753000" y="5478120"/>
              <a:chExt cx="280800" cy="277920"/>
            </a:xfrm>
          </p:grpSpPr>
          <p:sp>
            <p:nvSpPr>
              <p:cNvPr id="344" name=""/>
              <p:cNvSpPr/>
              <p:nvPr/>
            </p:nvSpPr>
            <p:spPr>
              <a:xfrm>
                <a:off x="376704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5300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3753000" y="5221080"/>
              <a:ext cx="280800" cy="277920"/>
              <a:chOff x="3753000" y="5221080"/>
              <a:chExt cx="280800" cy="277920"/>
            </a:xfrm>
          </p:grpSpPr>
          <p:sp>
            <p:nvSpPr>
              <p:cNvPr id="347" name=""/>
              <p:cNvSpPr/>
              <p:nvPr/>
            </p:nvSpPr>
            <p:spPr>
              <a:xfrm>
                <a:off x="376704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5300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753000" y="4954320"/>
              <a:ext cx="280800" cy="277920"/>
              <a:chOff x="3753000" y="4954320"/>
              <a:chExt cx="280800" cy="277920"/>
            </a:xfrm>
          </p:grpSpPr>
          <p:sp>
            <p:nvSpPr>
              <p:cNvPr id="350" name=""/>
              <p:cNvSpPr/>
              <p:nvPr/>
            </p:nvSpPr>
            <p:spPr>
              <a:xfrm>
                <a:off x="376704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5300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753000" y="4687920"/>
              <a:ext cx="280800" cy="277920"/>
              <a:chOff x="3753000" y="4687920"/>
              <a:chExt cx="280800" cy="277920"/>
            </a:xfrm>
          </p:grpSpPr>
          <p:sp>
            <p:nvSpPr>
              <p:cNvPr id="353" name=""/>
              <p:cNvSpPr/>
              <p:nvPr/>
            </p:nvSpPr>
            <p:spPr>
              <a:xfrm>
                <a:off x="376704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5300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4810320" y="5040360"/>
            <a:ext cx="1099080" cy="277920"/>
            <a:chOff x="4810320" y="5040360"/>
            <a:chExt cx="1099080" cy="277920"/>
          </a:xfrm>
        </p:grpSpPr>
        <p:grpSp>
          <p:nvGrpSpPr>
            <p:cNvPr id="356" name=""/>
            <p:cNvGrpSpPr/>
            <p:nvPr/>
          </p:nvGrpSpPr>
          <p:grpSpPr>
            <a:xfrm>
              <a:off x="5629320" y="5040360"/>
              <a:ext cx="280080" cy="277920"/>
              <a:chOff x="5629320" y="5040360"/>
              <a:chExt cx="280080" cy="277920"/>
            </a:xfrm>
          </p:grpSpPr>
          <p:sp>
            <p:nvSpPr>
              <p:cNvPr id="357" name=""/>
              <p:cNvSpPr/>
              <p:nvPr/>
            </p:nvSpPr>
            <p:spPr>
              <a:xfrm>
                <a:off x="5643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29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352840" y="5040360"/>
              <a:ext cx="280080" cy="277920"/>
              <a:chOff x="5352840" y="5040360"/>
              <a:chExt cx="280080" cy="277920"/>
            </a:xfrm>
          </p:grpSpPr>
          <p:sp>
            <p:nvSpPr>
              <p:cNvPr id="360" name=""/>
              <p:cNvSpPr/>
              <p:nvPr/>
            </p:nvSpPr>
            <p:spPr>
              <a:xfrm>
                <a:off x="536652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5284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086080" y="5040360"/>
              <a:ext cx="280080" cy="277920"/>
              <a:chOff x="5086080" y="5040360"/>
              <a:chExt cx="280080" cy="277920"/>
            </a:xfrm>
          </p:grpSpPr>
          <p:sp>
            <p:nvSpPr>
              <p:cNvPr id="363" name=""/>
              <p:cNvSpPr/>
              <p:nvPr/>
            </p:nvSpPr>
            <p:spPr>
              <a:xfrm>
                <a:off x="510012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860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810320" y="5040360"/>
              <a:ext cx="280080" cy="277920"/>
              <a:chOff x="4810320" y="5040360"/>
              <a:chExt cx="280080" cy="277920"/>
            </a:xfrm>
          </p:grpSpPr>
          <p:sp>
            <p:nvSpPr>
              <p:cNvPr id="366" name=""/>
              <p:cNvSpPr/>
              <p:nvPr/>
            </p:nvSpPr>
            <p:spPr>
              <a:xfrm>
                <a:off x="4824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10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5905800" y="5040360"/>
            <a:ext cx="1099080" cy="277920"/>
            <a:chOff x="5905800" y="5040360"/>
            <a:chExt cx="1099080" cy="277920"/>
          </a:xfrm>
        </p:grpSpPr>
        <p:grpSp>
          <p:nvGrpSpPr>
            <p:cNvPr id="369" name=""/>
            <p:cNvGrpSpPr/>
            <p:nvPr/>
          </p:nvGrpSpPr>
          <p:grpSpPr>
            <a:xfrm>
              <a:off x="6724800" y="5040360"/>
              <a:ext cx="280080" cy="277920"/>
              <a:chOff x="6724800" y="5040360"/>
              <a:chExt cx="280080" cy="277920"/>
            </a:xfrm>
          </p:grpSpPr>
          <p:sp>
            <p:nvSpPr>
              <p:cNvPr id="370" name=""/>
              <p:cNvSpPr/>
              <p:nvPr/>
            </p:nvSpPr>
            <p:spPr>
              <a:xfrm>
                <a:off x="6738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24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48320" y="5040360"/>
              <a:ext cx="280080" cy="277920"/>
              <a:chOff x="6448320" y="5040360"/>
              <a:chExt cx="280080" cy="27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646200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483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181560" y="5040360"/>
              <a:ext cx="280080" cy="277920"/>
              <a:chOff x="6181560" y="5040360"/>
              <a:chExt cx="280080" cy="277920"/>
            </a:xfrm>
          </p:grpSpPr>
          <p:sp>
            <p:nvSpPr>
              <p:cNvPr id="376" name=""/>
              <p:cNvSpPr/>
              <p:nvPr/>
            </p:nvSpPr>
            <p:spPr>
              <a:xfrm>
                <a:off x="6195600" y="504036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8156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905800" y="5040360"/>
              <a:ext cx="280080" cy="277920"/>
              <a:chOff x="5905800" y="5040360"/>
              <a:chExt cx="280080" cy="277920"/>
            </a:xfrm>
          </p:grpSpPr>
          <p:sp>
            <p:nvSpPr>
              <p:cNvPr id="379" name=""/>
              <p:cNvSpPr/>
              <p:nvPr/>
            </p:nvSpPr>
            <p:spPr>
              <a:xfrm>
                <a:off x="59194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905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7000920" y="5040360"/>
            <a:ext cx="1100160" cy="277920"/>
            <a:chOff x="7000920" y="5040360"/>
            <a:chExt cx="1100160" cy="277920"/>
          </a:xfrm>
        </p:grpSpPr>
        <p:grpSp>
          <p:nvGrpSpPr>
            <p:cNvPr id="382" name=""/>
            <p:cNvGrpSpPr/>
            <p:nvPr/>
          </p:nvGrpSpPr>
          <p:grpSpPr>
            <a:xfrm>
              <a:off x="7820280" y="5040360"/>
              <a:ext cx="280800" cy="277920"/>
              <a:chOff x="7820280" y="5040360"/>
              <a:chExt cx="280800" cy="277920"/>
            </a:xfrm>
          </p:grpSpPr>
          <p:sp>
            <p:nvSpPr>
              <p:cNvPr id="383" name=""/>
              <p:cNvSpPr/>
              <p:nvPr/>
            </p:nvSpPr>
            <p:spPr>
              <a:xfrm>
                <a:off x="783432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82028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543800" y="5040360"/>
              <a:ext cx="280800" cy="277920"/>
              <a:chOff x="7543800" y="5040360"/>
              <a:chExt cx="280800" cy="277920"/>
            </a:xfrm>
          </p:grpSpPr>
          <p:sp>
            <p:nvSpPr>
              <p:cNvPr id="386" name=""/>
              <p:cNvSpPr/>
              <p:nvPr/>
            </p:nvSpPr>
            <p:spPr>
              <a:xfrm>
                <a:off x="755784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438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277400" y="5040360"/>
              <a:ext cx="280080" cy="277920"/>
              <a:chOff x="7277400" y="5040360"/>
              <a:chExt cx="280080" cy="277920"/>
            </a:xfrm>
          </p:grpSpPr>
          <p:sp>
            <p:nvSpPr>
              <p:cNvPr id="389" name=""/>
              <p:cNvSpPr/>
              <p:nvPr/>
            </p:nvSpPr>
            <p:spPr>
              <a:xfrm>
                <a:off x="7291080" y="504036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7740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000920" y="5040360"/>
              <a:ext cx="280800" cy="277920"/>
              <a:chOff x="7000920" y="5040360"/>
              <a:chExt cx="280800" cy="277920"/>
            </a:xfrm>
          </p:grpSpPr>
          <p:sp>
            <p:nvSpPr>
              <p:cNvPr id="392" name=""/>
              <p:cNvSpPr/>
              <p:nvPr/>
            </p:nvSpPr>
            <p:spPr>
              <a:xfrm>
                <a:off x="7014960" y="504036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00920" y="504180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4810320" y="5383080"/>
            <a:ext cx="1099080" cy="277920"/>
            <a:chOff x="4810320" y="5383080"/>
            <a:chExt cx="1099080" cy="277920"/>
          </a:xfrm>
        </p:grpSpPr>
        <p:grpSp>
          <p:nvGrpSpPr>
            <p:cNvPr id="395" name=""/>
            <p:cNvGrpSpPr/>
            <p:nvPr/>
          </p:nvGrpSpPr>
          <p:grpSpPr>
            <a:xfrm>
              <a:off x="5629320" y="5383080"/>
              <a:ext cx="280080" cy="277920"/>
              <a:chOff x="5629320" y="5383080"/>
              <a:chExt cx="280080" cy="277920"/>
            </a:xfrm>
          </p:grpSpPr>
          <p:sp>
            <p:nvSpPr>
              <p:cNvPr id="396" name=""/>
              <p:cNvSpPr/>
              <p:nvPr/>
            </p:nvSpPr>
            <p:spPr>
              <a:xfrm>
                <a:off x="5643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29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352840" y="5383080"/>
              <a:ext cx="280080" cy="277920"/>
              <a:chOff x="5352840" y="5383080"/>
              <a:chExt cx="280080" cy="277920"/>
            </a:xfrm>
          </p:grpSpPr>
          <p:sp>
            <p:nvSpPr>
              <p:cNvPr id="399" name=""/>
              <p:cNvSpPr/>
              <p:nvPr/>
            </p:nvSpPr>
            <p:spPr>
              <a:xfrm>
                <a:off x="536652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35284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086080" y="5383080"/>
              <a:ext cx="280080" cy="277920"/>
              <a:chOff x="5086080" y="5383080"/>
              <a:chExt cx="280080" cy="277920"/>
            </a:xfrm>
          </p:grpSpPr>
          <p:sp>
            <p:nvSpPr>
              <p:cNvPr id="402" name=""/>
              <p:cNvSpPr/>
              <p:nvPr/>
            </p:nvSpPr>
            <p:spPr>
              <a:xfrm>
                <a:off x="510012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08608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810320" y="5383080"/>
              <a:ext cx="280080" cy="277920"/>
              <a:chOff x="4810320" y="5383080"/>
              <a:chExt cx="280080" cy="277920"/>
            </a:xfrm>
          </p:grpSpPr>
          <p:sp>
            <p:nvSpPr>
              <p:cNvPr id="405" name=""/>
              <p:cNvSpPr/>
              <p:nvPr/>
            </p:nvSpPr>
            <p:spPr>
              <a:xfrm>
                <a:off x="4824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10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4008600" y="4811760"/>
            <a:ext cx="13525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4821120"/>
            <a:ext cx="0" cy="1620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29120" y="4687920"/>
            <a:ext cx="280800" cy="1068120"/>
            <a:chOff x="4029120" y="4687920"/>
            <a:chExt cx="280800" cy="1068120"/>
          </a:xfrm>
        </p:grpSpPr>
        <p:grpSp>
          <p:nvGrpSpPr>
            <p:cNvPr id="410" name=""/>
            <p:cNvGrpSpPr/>
            <p:nvPr/>
          </p:nvGrpSpPr>
          <p:grpSpPr>
            <a:xfrm>
              <a:off x="4029120" y="5478120"/>
              <a:ext cx="280800" cy="277920"/>
              <a:chOff x="4029120" y="5478120"/>
              <a:chExt cx="280800" cy="277920"/>
            </a:xfrm>
          </p:grpSpPr>
          <p:sp>
            <p:nvSpPr>
              <p:cNvPr id="411" name=""/>
              <p:cNvSpPr/>
              <p:nvPr/>
            </p:nvSpPr>
            <p:spPr>
              <a:xfrm>
                <a:off x="404316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02912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029120" y="5221080"/>
              <a:ext cx="280800" cy="277920"/>
              <a:chOff x="4029120" y="5221080"/>
              <a:chExt cx="280800" cy="277920"/>
            </a:xfrm>
          </p:grpSpPr>
          <p:sp>
            <p:nvSpPr>
              <p:cNvPr id="414" name=""/>
              <p:cNvSpPr/>
              <p:nvPr/>
            </p:nvSpPr>
            <p:spPr>
              <a:xfrm>
                <a:off x="404316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2912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029120" y="4954320"/>
              <a:ext cx="280800" cy="277920"/>
              <a:chOff x="4029120" y="4954320"/>
              <a:chExt cx="280800" cy="277920"/>
            </a:xfrm>
          </p:grpSpPr>
          <p:sp>
            <p:nvSpPr>
              <p:cNvPr id="417" name=""/>
              <p:cNvSpPr/>
              <p:nvPr/>
            </p:nvSpPr>
            <p:spPr>
              <a:xfrm>
                <a:off x="404316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2912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029120" y="4687920"/>
              <a:ext cx="280800" cy="277920"/>
              <a:chOff x="4029120" y="4687920"/>
              <a:chExt cx="280800" cy="277920"/>
            </a:xfrm>
          </p:grpSpPr>
          <p:sp>
            <p:nvSpPr>
              <p:cNvPr id="420" name=""/>
              <p:cNvSpPr/>
              <p:nvPr/>
            </p:nvSpPr>
            <p:spPr>
              <a:xfrm>
                <a:off x="404316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2912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"/>
          <p:cNvSpPr/>
          <p:nvPr/>
        </p:nvSpPr>
        <p:spPr>
          <a:xfrm>
            <a:off x="4303800" y="4735440"/>
            <a:ext cx="21430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446880" y="4745160"/>
            <a:ext cx="0" cy="22860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924280" y="4687920"/>
            <a:ext cx="280800" cy="1068120"/>
            <a:chOff x="2924280" y="4687920"/>
            <a:chExt cx="280800" cy="1068120"/>
          </a:xfrm>
        </p:grpSpPr>
        <p:grpSp>
          <p:nvGrpSpPr>
            <p:cNvPr id="425" name=""/>
            <p:cNvGrpSpPr/>
            <p:nvPr/>
          </p:nvGrpSpPr>
          <p:grpSpPr>
            <a:xfrm>
              <a:off x="2924280" y="5478120"/>
              <a:ext cx="280800" cy="277920"/>
              <a:chOff x="2924280" y="5478120"/>
              <a:chExt cx="280800" cy="277920"/>
            </a:xfrm>
          </p:grpSpPr>
          <p:sp>
            <p:nvSpPr>
              <p:cNvPr id="426" name=""/>
              <p:cNvSpPr/>
              <p:nvPr/>
            </p:nvSpPr>
            <p:spPr>
              <a:xfrm>
                <a:off x="293832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2428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924280" y="5221080"/>
              <a:ext cx="280800" cy="277920"/>
              <a:chOff x="2924280" y="5221080"/>
              <a:chExt cx="280800" cy="277920"/>
            </a:xfrm>
          </p:grpSpPr>
          <p:sp>
            <p:nvSpPr>
              <p:cNvPr id="429" name=""/>
              <p:cNvSpPr/>
              <p:nvPr/>
            </p:nvSpPr>
            <p:spPr>
              <a:xfrm>
                <a:off x="293832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2428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924280" y="4954320"/>
              <a:ext cx="280800" cy="277920"/>
              <a:chOff x="2924280" y="4954320"/>
              <a:chExt cx="280800" cy="277920"/>
            </a:xfrm>
          </p:grpSpPr>
          <p:sp>
            <p:nvSpPr>
              <p:cNvPr id="432" name=""/>
              <p:cNvSpPr/>
              <p:nvPr/>
            </p:nvSpPr>
            <p:spPr>
              <a:xfrm>
                <a:off x="293832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2428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924280" y="4687920"/>
              <a:ext cx="280800" cy="277920"/>
              <a:chOff x="2924280" y="4687920"/>
              <a:chExt cx="280800" cy="277920"/>
            </a:xfrm>
          </p:grpSpPr>
          <p:sp>
            <p:nvSpPr>
              <p:cNvPr id="435" name=""/>
              <p:cNvSpPr/>
              <p:nvPr/>
            </p:nvSpPr>
            <p:spPr>
              <a:xfrm>
                <a:off x="293832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2428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3189240" y="4811760"/>
            <a:ext cx="436248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42360" y="4821120"/>
            <a:ext cx="0" cy="190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905800" y="5383080"/>
            <a:ext cx="1099080" cy="277920"/>
            <a:chOff x="5905800" y="5383080"/>
            <a:chExt cx="1099080" cy="277920"/>
          </a:xfrm>
        </p:grpSpPr>
        <p:grpSp>
          <p:nvGrpSpPr>
            <p:cNvPr id="440" name=""/>
            <p:cNvGrpSpPr/>
            <p:nvPr/>
          </p:nvGrpSpPr>
          <p:grpSpPr>
            <a:xfrm>
              <a:off x="6724800" y="5383080"/>
              <a:ext cx="280080" cy="277920"/>
              <a:chOff x="6724800" y="5383080"/>
              <a:chExt cx="280080" cy="277920"/>
            </a:xfrm>
          </p:grpSpPr>
          <p:sp>
            <p:nvSpPr>
              <p:cNvPr id="441" name=""/>
              <p:cNvSpPr/>
              <p:nvPr/>
            </p:nvSpPr>
            <p:spPr>
              <a:xfrm>
                <a:off x="6738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24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448320" y="5383080"/>
              <a:ext cx="280080" cy="277920"/>
              <a:chOff x="6448320" y="5383080"/>
              <a:chExt cx="280080" cy="277920"/>
            </a:xfrm>
          </p:grpSpPr>
          <p:sp>
            <p:nvSpPr>
              <p:cNvPr id="444" name=""/>
              <p:cNvSpPr/>
              <p:nvPr/>
            </p:nvSpPr>
            <p:spPr>
              <a:xfrm>
                <a:off x="646200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44832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181560" y="5383080"/>
              <a:ext cx="280080" cy="277920"/>
              <a:chOff x="6181560" y="5383080"/>
              <a:chExt cx="280080" cy="277920"/>
            </a:xfrm>
          </p:grpSpPr>
          <p:sp>
            <p:nvSpPr>
              <p:cNvPr id="447" name=""/>
              <p:cNvSpPr/>
              <p:nvPr/>
            </p:nvSpPr>
            <p:spPr>
              <a:xfrm>
                <a:off x="6195600" y="538308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8156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5905800" y="5383080"/>
              <a:ext cx="280080" cy="277920"/>
              <a:chOff x="5905800" y="5383080"/>
              <a:chExt cx="280080" cy="277920"/>
            </a:xfrm>
          </p:grpSpPr>
          <p:sp>
            <p:nvSpPr>
              <p:cNvPr id="450" name=""/>
              <p:cNvSpPr/>
              <p:nvPr/>
            </p:nvSpPr>
            <p:spPr>
              <a:xfrm>
                <a:off x="5919480" y="538308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05800" y="5384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486240" y="4687920"/>
            <a:ext cx="280800" cy="1068120"/>
            <a:chOff x="3486240" y="4687920"/>
            <a:chExt cx="280800" cy="1068120"/>
          </a:xfrm>
        </p:grpSpPr>
        <p:grpSp>
          <p:nvGrpSpPr>
            <p:cNvPr id="453" name=""/>
            <p:cNvGrpSpPr/>
            <p:nvPr/>
          </p:nvGrpSpPr>
          <p:grpSpPr>
            <a:xfrm>
              <a:off x="3486240" y="5478120"/>
              <a:ext cx="280800" cy="277920"/>
              <a:chOff x="3486240" y="5478120"/>
              <a:chExt cx="280800" cy="277920"/>
            </a:xfrm>
          </p:grpSpPr>
          <p:sp>
            <p:nvSpPr>
              <p:cNvPr id="454" name=""/>
              <p:cNvSpPr/>
              <p:nvPr/>
            </p:nvSpPr>
            <p:spPr>
              <a:xfrm>
                <a:off x="3500280" y="54781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86240" y="54795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486240" y="5221080"/>
              <a:ext cx="280800" cy="277920"/>
              <a:chOff x="3486240" y="5221080"/>
              <a:chExt cx="280800" cy="277920"/>
            </a:xfrm>
          </p:grpSpPr>
          <p:sp>
            <p:nvSpPr>
              <p:cNvPr id="457" name=""/>
              <p:cNvSpPr/>
              <p:nvPr/>
            </p:nvSpPr>
            <p:spPr>
              <a:xfrm>
                <a:off x="3500280" y="522108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86240" y="522252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486240" y="4954320"/>
              <a:ext cx="280800" cy="277920"/>
              <a:chOff x="3486240" y="4954320"/>
              <a:chExt cx="280800" cy="277920"/>
            </a:xfrm>
          </p:grpSpPr>
          <p:sp>
            <p:nvSpPr>
              <p:cNvPr id="460" name=""/>
              <p:cNvSpPr/>
              <p:nvPr/>
            </p:nvSpPr>
            <p:spPr>
              <a:xfrm>
                <a:off x="3500280" y="4954320"/>
                <a:ext cx="266760" cy="26604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86240" y="4955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3486240" y="4687920"/>
              <a:ext cx="280800" cy="277920"/>
              <a:chOff x="3486240" y="4687920"/>
              <a:chExt cx="280800" cy="277920"/>
            </a:xfrm>
          </p:grpSpPr>
          <p:sp>
            <p:nvSpPr>
              <p:cNvPr id="463" name=""/>
              <p:cNvSpPr/>
              <p:nvPr/>
            </p:nvSpPr>
            <p:spPr>
              <a:xfrm>
                <a:off x="3500280" y="46879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86240" y="46893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3608280" y="5745240"/>
            <a:ext cx="0" cy="17136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98920" y="5916600"/>
            <a:ext cx="174312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342040" y="5678280"/>
            <a:ext cx="0" cy="2379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51240" y="5754600"/>
            <a:ext cx="9360" cy="28584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51240" y="6031080"/>
            <a:ext cx="3095640" cy="0"/>
          </a:xfrm>
          <a:prstGeom prst="line">
            <a:avLst/>
          </a:prstGeom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446880" y="5697000"/>
            <a:ext cx="0" cy="3337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328B-80DE-4FAD-ADC4-0064ECE6EF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 will implement a double column transposi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262240" y="3419640"/>
            <a:ext cx="5113440" cy="229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CF18-2E96-463D-8F5D-3DDD005F9E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0T01:51:27Z</dcterms:modified>
  <cp:revision>69</cp:revision>
  <dc:subject/>
  <dc:title>CAP Cryptographic Analysis Program</dc:title>
</cp:coreProperties>
</file>