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52F6-5171-4E7A-B266-1CF494F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E7F4-CDC5-4F2B-93CF-0FAFBE82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CA7A-E4CC-4C84-9325-88CA463C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49B1-C62A-438E-B77F-760B2582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786C-F0B4-433E-804B-5A15C27A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176-F011-4E7F-A163-226FD1AC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AD8D-427F-459D-A54B-39EE08D6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3F7-3473-41C4-B0AB-7131004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2A4E-9B58-45C2-917F-8700078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5FB-07B7-4151-81F6-D69FF43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B6D0-5A22-4C02-A37F-AF8FF5D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BE9E-26A1-4937-A9D3-1137898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B6CB-BE6F-42ED-92D7-C6C1249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C5D2-2227-4DB4-AE6A-2599B37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1DD-3AD4-4B0D-B725-70F67C99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24B-B03E-49C0-A4C7-BC13E1F8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814-EFD2-459D-9D27-98021AAA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664B-C757-415D-919B-374CB71C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9DEB-37A0-4391-B6D6-346A6D6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F957-3F72-493D-A961-F269158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7770-C494-47C2-9F6A-26FB64BE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1542-34E8-486B-B00A-2416E05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F41A-36EF-4316-B940-C374E1B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22E6-1CBD-448B-AFB3-EB76BEB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5CB-9BF1-4FFD-9BDB-1A6D39F31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ABD9-9051-40B6-8780-82EE501CB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to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or wired codewheel is a building block of a variety of polyalphabetic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tor is a disk with electrical contacts, one for each letter of the alphabet around th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path of the wires defines a monoalphabetic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7760" y="4065480"/>
            <a:ext cx="1523880" cy="2590920"/>
            <a:chOff x="7367760" y="4065480"/>
            <a:chExt cx="1523880" cy="2590920"/>
          </a:xfrm>
        </p:grpSpPr>
        <p:sp>
          <p:nvSpPr>
            <p:cNvPr id="116" name=""/>
            <p:cNvSpPr/>
            <p:nvPr/>
          </p:nvSpPr>
          <p:spPr>
            <a:xfrm>
              <a:off x="7367760" y="4065480"/>
              <a:ext cx="1523880" cy="259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520040" y="4141800"/>
              <a:ext cx="1295640" cy="2438280"/>
              <a:chOff x="7520040" y="4141800"/>
              <a:chExt cx="1295640" cy="243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7672680" y="41418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663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0040" y="4903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3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20040" y="4446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20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663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0040" y="581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663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0040" y="627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3040" y="5360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72680" y="4522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053560" y="45226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8043840" y="58942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680" y="4960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48760" y="45223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339400" y="45226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62960" y="54464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48760" y="54464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48760" y="63799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62960" y="59227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8234640" y="49989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34640" y="49989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82040" y="63421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8520120" y="54370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519760" y="54464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4611600" y="4581360"/>
            <a:ext cx="2149560" cy="2149560"/>
            <a:chOff x="4611600" y="4581360"/>
            <a:chExt cx="2149560" cy="2149560"/>
          </a:xfrm>
        </p:grpSpPr>
        <p:sp>
          <p:nvSpPr>
            <p:cNvPr id="145" name=""/>
            <p:cNvSpPr/>
            <p:nvPr/>
          </p:nvSpPr>
          <p:spPr>
            <a:xfrm>
              <a:off x="4611600" y="4581360"/>
              <a:ext cx="2149560" cy="214956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8160" y="4883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8160" y="6364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0440" y="5605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0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65880" y="560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3200" y="61578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8080" y="61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5480" y="509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050C-EF9A-4EF5-A5F9-718699F102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R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7840" y="1852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rotors are connected and rotated at different r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8960" y="3274920"/>
            <a:ext cx="8305920" cy="350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29000" y="3397320"/>
            <a:ext cx="3250440" cy="2844360"/>
            <a:chOff x="729000" y="3397320"/>
            <a:chExt cx="3250440" cy="2844360"/>
          </a:xfrm>
        </p:grpSpPr>
        <p:grpSp>
          <p:nvGrpSpPr>
            <p:cNvPr id="158" name=""/>
            <p:cNvGrpSpPr/>
            <p:nvPr/>
          </p:nvGrpSpPr>
          <p:grpSpPr>
            <a:xfrm>
              <a:off x="1028880" y="3803400"/>
              <a:ext cx="1295640" cy="2438280"/>
              <a:chOff x="1028880" y="3803400"/>
              <a:chExt cx="1295640" cy="243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81520" y="3803400"/>
                <a:ext cx="99036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71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8880" y="45651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1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8880" y="410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71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28880" y="54795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71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28880" y="5936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71880" y="5022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81520" y="418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62400" y="41842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552680" y="55558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181520" y="4622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857600" y="41839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848240" y="418428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71800" y="510804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57600" y="5108040"/>
                <a:ext cx="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7600" y="604152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1800" y="5584320"/>
                <a:ext cx="57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743480" y="4660560"/>
                <a:ext cx="0" cy="9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43480" y="466056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90880" y="600372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028960" y="5098680"/>
                <a:ext cx="0" cy="90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028600" y="51080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352960" y="3794040"/>
              <a:ext cx="1294920" cy="2437920"/>
              <a:chOff x="2352960" y="3794040"/>
              <a:chExt cx="1294920" cy="243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505240" y="3794040"/>
                <a:ext cx="990000" cy="243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560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2960" y="4555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560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52960" y="4098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5296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9560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352960" y="5469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9560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52960" y="59270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600" y="5012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05240" y="4174560"/>
                <a:ext cx="3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886120" y="4174560"/>
                <a:ext cx="0" cy="13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876760" y="55461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5240" y="4612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181320" y="417456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171600" y="417456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495520" y="5098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1320" y="5098320"/>
                <a:ext cx="0" cy="9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81320" y="6031800"/>
                <a:ext cx="3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95520" y="55746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067200" y="4650480"/>
                <a:ext cx="0" cy="9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7200" y="4650840"/>
                <a:ext cx="4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14600" y="599400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352680" y="5088600"/>
                <a:ext cx="0" cy="90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3352680" y="5098320"/>
                <a:ext cx="1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9000" y="3984480"/>
              <a:ext cx="345600" cy="2206080"/>
              <a:chOff x="729000" y="3984480"/>
              <a:chExt cx="345600" cy="2206080"/>
            </a:xfrm>
          </p:grpSpPr>
          <p:sp>
            <p:nvSpPr>
              <p:cNvPr id="213" name=""/>
              <p:cNvSpPr/>
              <p:nvPr/>
            </p:nvSpPr>
            <p:spPr>
              <a:xfrm>
                <a:off x="72936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900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936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936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900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633840" y="3984480"/>
              <a:ext cx="345600" cy="2206080"/>
              <a:chOff x="3633840" y="3984480"/>
              <a:chExt cx="345600" cy="2206080"/>
            </a:xfrm>
          </p:grpSpPr>
          <p:sp>
            <p:nvSpPr>
              <p:cNvPr id="219" name=""/>
              <p:cNvSpPr/>
              <p:nvPr/>
            </p:nvSpPr>
            <p:spPr>
              <a:xfrm>
                <a:off x="3634200" y="3984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3840" y="44319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200" y="4907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34200" y="5365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3840" y="58222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00480" y="340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43640" y="339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190520" y="3527280"/>
            <a:ext cx="4189680" cy="2048040"/>
            <a:chOff x="1190520" y="3527280"/>
            <a:chExt cx="4189680" cy="2048040"/>
          </a:xfrm>
        </p:grpSpPr>
        <p:grpSp>
          <p:nvGrpSpPr>
            <p:cNvPr id="227" name=""/>
            <p:cNvGrpSpPr/>
            <p:nvPr/>
          </p:nvGrpSpPr>
          <p:grpSpPr>
            <a:xfrm>
              <a:off x="1190520" y="4184640"/>
              <a:ext cx="2305080" cy="1390680"/>
              <a:chOff x="1190520" y="4184640"/>
              <a:chExt cx="2305080" cy="1390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90520" y="4184640"/>
                <a:ext cx="38088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62040" y="4184640"/>
                <a:ext cx="0" cy="137160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62040" y="5556240"/>
                <a:ext cx="5904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14240" y="5575320"/>
                <a:ext cx="55260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3066840" y="4650840"/>
                <a:ext cx="0" cy="92412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66840" y="4651200"/>
                <a:ext cx="428760" cy="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099320" y="3527280"/>
              <a:ext cx="12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Times New Roman"/>
                </a:rPr>
                <a:t>A goes t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29280" y="3359160"/>
            <a:ext cx="4626360" cy="2844720"/>
            <a:chOff x="4229280" y="3359160"/>
            <a:chExt cx="4626360" cy="2844720"/>
          </a:xfrm>
        </p:grpSpPr>
        <p:grpSp>
          <p:nvGrpSpPr>
            <p:cNvPr id="236" name=""/>
            <p:cNvGrpSpPr/>
            <p:nvPr/>
          </p:nvGrpSpPr>
          <p:grpSpPr>
            <a:xfrm>
              <a:off x="5614560" y="3946320"/>
              <a:ext cx="345600" cy="2206440"/>
              <a:chOff x="5614560" y="3946320"/>
              <a:chExt cx="345600" cy="2206440"/>
            </a:xfrm>
          </p:grpSpPr>
          <p:sp>
            <p:nvSpPr>
              <p:cNvPr id="237" name=""/>
              <p:cNvSpPr/>
              <p:nvPr/>
            </p:nvSpPr>
            <p:spPr>
              <a:xfrm>
                <a:off x="5614920" y="39463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4560" y="43941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14920" y="487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14920" y="532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14560" y="5784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29280" y="3359160"/>
              <a:ext cx="4626360" cy="2844720"/>
              <a:chOff x="4229280" y="3359160"/>
              <a:chExt cx="4626360" cy="2844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29280" y="5013360"/>
                <a:ext cx="111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72480" y="471312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otate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y 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5905440" y="3359160"/>
                <a:ext cx="2950200" cy="2844720"/>
                <a:chOff x="5905440" y="3359160"/>
                <a:chExt cx="2950200" cy="28447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385680" y="3368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5905440" y="3359160"/>
                  <a:ext cx="2950200" cy="2844720"/>
                  <a:chOff x="5905440" y="3359160"/>
                  <a:chExt cx="2950200" cy="284472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905440" y="3359160"/>
                    <a:ext cx="2950200" cy="2844720"/>
                    <a:chOff x="5905440" y="3359160"/>
                    <a:chExt cx="2950200" cy="284472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905440" y="3765600"/>
                      <a:ext cx="1294560" cy="2438280"/>
                      <a:chOff x="5905440" y="3765600"/>
                      <a:chExt cx="1294560" cy="243828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57720" y="3765600"/>
                        <a:ext cx="989640" cy="243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704772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5905440" y="45273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704772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905440" y="40701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590544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704772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905440" y="54417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704772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905440" y="58989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7047720" y="4984560"/>
                        <a:ext cx="152280" cy="152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057720" y="4146480"/>
                        <a:ext cx="38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438600" y="4146480"/>
                        <a:ext cx="0" cy="13716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6429240" y="5518080"/>
                        <a:ext cx="609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057720" y="458460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V="1">
                        <a:off x="6733440" y="4146120"/>
                        <a:ext cx="0" cy="438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6723720" y="4146480"/>
                        <a:ext cx="333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048000" y="5070240"/>
                        <a:ext cx="685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733440" y="5070240"/>
                        <a:ext cx="0" cy="943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33440" y="6003720"/>
                        <a:ext cx="323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048000" y="5546520"/>
                        <a:ext cx="571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flipV="1">
                        <a:off x="6619320" y="4622760"/>
                        <a:ext cx="0" cy="923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619320" y="4622760"/>
                        <a:ext cx="437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067080" y="5965920"/>
                        <a:ext cx="8373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flipV="1">
                        <a:off x="6904800" y="5060880"/>
                        <a:ext cx="0" cy="905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flipH="1">
                        <a:off x="6904800" y="5070240"/>
                        <a:ext cx="142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381440" y="3755880"/>
                      <a:ext cx="990360" cy="243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8372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229160" y="45180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72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229160" y="40608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229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372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7229160" y="54324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372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229160" y="58896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8372160" y="4975200"/>
                      <a:ext cx="151920" cy="152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1440" y="4137120"/>
                      <a:ext cx="380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8057520" y="4137120"/>
                      <a:ext cx="333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9" name=""/>
                    <p:cNvGrpSpPr/>
                    <p:nvPr/>
                  </p:nvGrpSpPr>
                  <p:grpSpPr>
                    <a:xfrm>
                      <a:off x="8510040" y="3946320"/>
                      <a:ext cx="345600" cy="2206440"/>
                      <a:chOff x="8510040" y="3946320"/>
                      <a:chExt cx="345600" cy="2206440"/>
                    </a:xfrm>
                  </p:grpSpPr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8510040" y="394632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E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8510400" y="439416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8510040" y="4870080"/>
                        <a:ext cx="33300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8510400" y="53272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8510400" y="5784480"/>
                        <a:ext cx="3452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719480" y="33591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762320" y="4137120"/>
                      <a:ext cx="0" cy="1371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>
                      <a:off x="7657560" y="5994360"/>
                      <a:ext cx="714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381440" y="4603680"/>
                      <a:ext cx="275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381440" y="5060880"/>
                      <a:ext cx="495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>
                      <a:off x="7876440" y="4584600"/>
                      <a:ext cx="5043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391160" y="5946840"/>
                      <a:ext cx="732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8105040" y="5051520"/>
                      <a:ext cx="25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>
                      <a:off x="7761960" y="5508720"/>
                      <a:ext cx="609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57560" y="4603680"/>
                      <a:ext cx="0" cy="1390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V="1">
                      <a:off x="7886160" y="4574880"/>
                      <a:ext cx="0" cy="485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V="1">
                      <a:off x="7552800" y="4250880"/>
                      <a:ext cx="0" cy="1266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552800" y="4251240"/>
                      <a:ext cx="523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67240" y="4146480"/>
                      <a:ext cx="0" cy="114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8114760" y="5051520"/>
                      <a:ext cx="0" cy="895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0" name=""/>
                  <p:cNvSpPr/>
                  <p:nvPr/>
                </p:nvSpPr>
                <p:spPr>
                  <a:xfrm>
                    <a:off x="7353000" y="5508720"/>
                    <a:ext cx="199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11" name=""/>
          <p:cNvGrpSpPr/>
          <p:nvPr/>
        </p:nvGrpSpPr>
        <p:grpSpPr>
          <a:xfrm>
            <a:off x="6058080" y="4136760"/>
            <a:ext cx="2323440" cy="1381320"/>
            <a:chOff x="6058080" y="4136760"/>
            <a:chExt cx="2323440" cy="1381320"/>
          </a:xfrm>
        </p:grpSpPr>
        <p:sp>
          <p:nvSpPr>
            <p:cNvPr id="312" name=""/>
            <p:cNvSpPr/>
            <p:nvPr/>
          </p:nvSpPr>
          <p:spPr>
            <a:xfrm>
              <a:off x="6058080" y="4146480"/>
              <a:ext cx="371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38600" y="4146480"/>
              <a:ext cx="0" cy="13716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8600" y="5518080"/>
              <a:ext cx="6188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160" y="5508720"/>
              <a:ext cx="16164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53160" y="4250880"/>
              <a:ext cx="0" cy="12574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160" y="4251240"/>
              <a:ext cx="514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67600" y="4136760"/>
              <a:ext cx="0" cy="114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67600" y="4137120"/>
              <a:ext cx="3139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118760" y="387036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 goes t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331F-3FA3-4DAE-8DBF-013E8D04F1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ors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 provides a rotor type 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Rotor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54280" y="3405240"/>
            <a:ext cx="552456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20EE9-29D6-419B-B065-1FCD3AC94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5T01:41:34Z</dcterms:modified>
  <cp:revision>66</cp:revision>
  <dc:subject/>
  <dc:title>CAP Cryptographic Analysis Program</dc:title>
</cp:coreProperties>
</file>