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27C40-FED6-40A8-BB6E-08A5D9E80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5B40E-5D9F-4952-9BD4-933DA7E0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6AF6D-6B11-41E0-8E30-29DEB7ADC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8755B-7415-43AA-880B-E7C183A30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8913-CE9B-47DA-A0E5-F5D7471B6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D2EE-55C5-4D5B-A4F6-667913F3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BDFF-E387-47E8-BFAD-AFB67DB8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F011-D553-4D09-AF27-E73B6E8B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1233-FECB-4399-89C5-D3C9D078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F060-C533-4138-8C53-AF685C12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2D60-5F4A-4B2E-8B12-3858C3BF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5CDBD-92C7-41A3-8C93-326480DF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B68E-3273-4CF3-A433-592BB35F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D3B8-BBBA-480E-A32C-B8E1FEF7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5CD9-402B-44DA-B34C-495ED2A7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C44B-EC89-4736-8A14-0C16212E7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7C59-8E05-40E5-8166-423BBA529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2AFC5-1011-400C-B62A-75DD2E96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AB5FF-6B8E-4394-8F11-22923D64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D5378-95C9-47FD-A2F1-96F261A8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B2077-254C-42AB-8DB5-B6DD2209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FBC2E-4D91-4E91-8752-C16EDF1E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42590-C277-4C08-AD72-1C59AA5C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9E9C6-6237-479B-A8EC-4FEDBBC3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BA10-28DC-4B17-AD8D-56D54FCF83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1CCD-B808-4DD2-84B6-508B982440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Simple Homophonic Ciph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5080" y="53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imple Homophonic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8160" y="2225160"/>
            <a:ext cx="7646760" cy="27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substitution cipher that tries to hide frequency dat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does it by randomly assigning one of four numbers to each letter based on a key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F5087-68F1-40C5-90B8-F785CCD954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6520" y="1916280"/>
            <a:ext cx="8520120" cy="28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the numbers 1 to 100 (represent 100 by 00) up into four groups of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 one number from each group to the letters a to z (skipping j – any j in the plaintext is coded as an 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ssignment is accomplished like the simple shift cipher so if a is assigned 07 then b is assigned 08, and so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ssignment is determined by a four letter keyword, for example if the keyword is “next” then the assignment is given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01560" y="4703760"/>
            <a:ext cx="581976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01 02 03 04 05 06 07 08 09 10 11 12 13 14 15 16 17 18 19 20 21 22 23 24 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  o  p  q  r  s  t  u  v  w  x  y  z  a  b  c  d  e  f  g  h  i  k  l  m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26 27 28 29 30 31 32 33 34 35 36 37 38 39 40 41 42 43 44 45 46 47 48 49 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  f  g  h  i  k  l  m  n  o  p  q  r  s  t  u  v  w  x  y  z  a  b  c 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51 52 53 54 55 56 57 58 59 60 61 62 63 64 65 66 67 68 69 70 71 72 73 74 7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  y  z  a  b  c  d  e  f  g  h  i  k  l  m  n  o  p  q  r  s  t  u  v  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76 77 78 79 80 81 82 83 84 85 86 87 88 89 90 91 92 93 94 95 96 97 98 99 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t  u  v  w  x  y  z  a  b  c  d  e  f  g  h  i  k  l  m  n  o  p  q  r  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7120" y="4808520"/>
            <a:ext cx="344520" cy="1720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5E102-6AC5-4C98-906F-C5D8976C15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4-30T23:35:38Z</dcterms:modified>
  <cp:revision>69</cp:revision>
  <dc:subject/>
  <dc:title>CAP Cryptographic Analysis Program</dc:title>
</cp:coreProperties>
</file>