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B11B-4AFA-4A45-B7D0-E38AE2B3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337A-6973-49CA-A2F1-26A72261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0727-ABB3-43A6-97BC-897CCCFC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1B6C2-B5A2-4A4A-9386-D8615B02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5216-91AC-48E8-BA31-7399C755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D3E7-87B9-4F9B-9372-D7BA783A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B2FA-75E5-4D90-88D8-44B8667C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796E-297B-415F-85D6-47331739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62DB-1566-462B-ABAE-560EB91B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6643-D1E4-4830-9791-46385006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1A88-F848-4F12-97AE-8CF0EB4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C199-AF85-4C19-9185-C53BE4D6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6DCC-F0B3-4DFB-A162-92086CCF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6BB5-A0A8-4B54-A2B2-7768F1E9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2360-26E1-4841-A34A-D82DB291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10DB-0B9F-4914-B104-E5AC7C12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A9DF-081A-4310-A49E-86D2E714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9901-77B0-4D1C-9E1A-D96423E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EB38F-B33D-4D84-9BC8-E9F90A61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1285-B10A-4450-91D4-7E8D6172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3B96C-569D-4B66-A137-86E19B11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B428-A4F9-4A66-A9DF-8F3E8FE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282F-642E-478B-AA9C-1F08E8F4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2FF4-4DEB-4C6C-804C-549D6866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ACC9-2E70-421E-8551-4CC0B4CDF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F23D-7F81-4A66-89E1-D50695CFC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Column Transposition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rans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3920" y="1936800"/>
            <a:ext cx="82933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are three tasks involved in breaking a column transposition cip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ossible rectangle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correct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colum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9D9F-640D-406A-94DD-C84D634E52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Rect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rst step in analyzing a column transposition is determining the number of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ompletely filled transposition, the number of characters is the product of the number of rows and the number of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factor the number of characters to determine possible row and column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9F61-F862-41BB-B6BA-1F1C7846B7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Rect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factors only supply possible column sizes - test each possibility by doing a vowe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line of plaintext should contain about 40%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unt the vowels in each row of each possible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best match to 40% is the best choice for the actual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3EFD-3066-49ED-BE5E-288C1FC7D9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rectangle size is determined, the column order must be 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is taken of all the characteristics of the plaintext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EFEC-E1DE-48AB-B6EE-073AEDB26A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ADD1-2123-4DEC-9223-4CC405AA67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A93F-B09B-410B-88F8-7FFD62263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4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Size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9000" y="1464840"/>
            <a:ext cx="76276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 will determine both possible column sizes and run a vowel analysis of each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41280" y="2478240"/>
            <a:ext cx="1060560" cy="4379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83160" y="2276640"/>
            <a:ext cx="5263920" cy="4452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52360" y="3457440"/>
            <a:ext cx="1257480" cy="6192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7BC0-4730-45FE-A037-5B76A5ACE9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2920" y="26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gramming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5440" y="1336680"/>
            <a:ext cx="72406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provides a tool to aid in the anagramm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27000" y="2243160"/>
            <a:ext cx="1117800" cy="461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400480" y="2638440"/>
            <a:ext cx="6591240" cy="3835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87400" y="3909960"/>
            <a:ext cx="1257480" cy="5238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4DCA-0AFE-44DB-9C79-DA2B1ACDBD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9T01:47:44Z</dcterms:modified>
  <cp:revision>69</cp:revision>
  <dc:subject/>
  <dc:title>CAP Cryptographic Analysis Program</dc:title>
</cp:coreProperties>
</file>