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5529-83CD-4E66-9BA4-E5F433D6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DB18-69A9-4059-9E3D-31A3045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75C5-A76A-4562-BD8F-F189E6A3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8B17-6864-4699-991B-96F07E6F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A40-31A8-436E-B972-FDB8BC55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2D8-628B-419F-ADA2-2FA57F3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777E-C7D7-4DD0-BD2A-1301F339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D4C8-D19B-4BC2-A0A3-5F0ECBE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625C-2B4D-4648-A86E-50E5C24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919A-E58A-457C-B650-352962FE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2AD3-58A8-422E-BD60-863C5E5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50C7-3196-4727-AC41-CEC6220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BA5E-A4AB-49AE-99E9-AAE0D7B9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EE1-FF21-4C61-A978-63A4FFF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F614-541B-4A3D-A565-E1216AB7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EB17-3CCF-490F-9145-D07B8AE6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4E9B-956B-482B-9D21-D678D707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684E-0CDC-4091-93C0-0886D83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70C2-9825-4D4B-8876-EF608B2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3250-9610-4093-AE4D-FF1AD8B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D269-680F-4F0E-9F30-B3F7422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4F3C-AB88-4CFF-B663-B9BF097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26ADF-3BDF-4D64-966B-3D0A88DC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AEDB-44D8-429E-B9D1-31426DF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4C18-81B1-424A-92AE-62856BE2C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FE28-B91B-43BF-BADE-470FD3CF9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ll Cipher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1C1D-693F-4A90-A202-3D147CAF3C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3276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aracter is assigned a numerical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the transformation of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iven by 3 equation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80320" y="4700520"/>
            <a:ext cx="36406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42560" y="4664160"/>
            <a:ext cx="3841560" cy="1561680"/>
            <a:chOff x="1942560" y="4664160"/>
            <a:chExt cx="3841560" cy="1561680"/>
          </a:xfrm>
        </p:grpSpPr>
        <p:grpSp>
          <p:nvGrpSpPr>
            <p:cNvPr id="119" name=""/>
            <p:cNvGrpSpPr/>
            <p:nvPr/>
          </p:nvGrpSpPr>
          <p:grpSpPr>
            <a:xfrm>
              <a:off x="3794040" y="4664160"/>
              <a:ext cx="1990080" cy="1561680"/>
              <a:chOff x="3794040" y="4664160"/>
              <a:chExt cx="1990080" cy="1561680"/>
            </a:xfrm>
          </p:grpSpPr>
          <p:sp>
            <p:nvSpPr>
              <p:cNvPr id="120" name=""/>
              <p:cNvSpPr/>
              <p:nvPr/>
            </p:nvSpPr>
            <p:spPr>
              <a:xfrm>
                <a:off x="3794040" y="472104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84240" y="469260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374800" y="466416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94040" y="52639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4240" y="52354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74800" y="520704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94040" y="5816520"/>
                <a:ext cx="40896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84240" y="5788080"/>
                <a:ext cx="409320" cy="40896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74800" y="5759280"/>
                <a:ext cx="409320" cy="40932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942560" y="52848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44B8-40D8-44EB-8435-8FC87D6235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160" y="1636560"/>
            <a:ext cx="774396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ll cipher is really a matrix multi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ciphering key is an n x n matrix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phering key is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n = 3 one possible ke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53000" y="4057560"/>
            <a:ext cx="3120120" cy="1074240"/>
            <a:chOff x="1053000" y="4057560"/>
            <a:chExt cx="3120120" cy="1074240"/>
          </a:xfrm>
        </p:grpSpPr>
        <p:sp>
          <p:nvSpPr>
            <p:cNvPr id="133" name=""/>
            <p:cNvSpPr/>
            <p:nvPr/>
          </p:nvSpPr>
          <p:spPr>
            <a:xfrm>
              <a:off x="1706400" y="421488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7  17  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1  18 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   2  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3000" y="4057560"/>
              <a:ext cx="297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78440" y="4073400"/>
            <a:ext cx="3331800" cy="1034640"/>
            <a:chOff x="4978440" y="4073400"/>
            <a:chExt cx="3331800" cy="1034640"/>
          </a:xfrm>
        </p:grpSpPr>
        <p:sp>
          <p:nvSpPr>
            <p:cNvPr id="136" name=""/>
            <p:cNvSpPr/>
            <p:nvPr/>
          </p:nvSpPr>
          <p:spPr>
            <a:xfrm>
              <a:off x="5843520" y="4191120"/>
              <a:ext cx="24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   9 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5  17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4   0  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78440" y="4073400"/>
              <a:ext cx="3183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(       )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41720" y="547992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   ‘n o 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8520" y="5705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14 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19560" y="5310360"/>
            <a:ext cx="4036320" cy="1458360"/>
            <a:chOff x="3319560" y="5310360"/>
            <a:chExt cx="4036320" cy="1458360"/>
          </a:xfrm>
        </p:grpSpPr>
        <p:sp>
          <p:nvSpPr>
            <p:cNvPr id="141" name=""/>
            <p:cNvSpPr/>
            <p:nvPr/>
          </p:nvSpPr>
          <p:spPr>
            <a:xfrm>
              <a:off x="3319560" y="5334120"/>
              <a:ext cx="285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351240" y="5310360"/>
              <a:ext cx="4004640" cy="801720"/>
              <a:chOff x="3351240" y="5310360"/>
              <a:chExt cx="4004640" cy="801720"/>
            </a:xfrm>
          </p:grpSpPr>
          <p:sp>
            <p:nvSpPr>
              <p:cNvPr id="143" name=""/>
              <p:cNvSpPr/>
              <p:nvPr/>
            </p:nvSpPr>
            <p:spPr>
              <a:xfrm>
                <a:off x="4398840" y="534384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351240" y="5310360"/>
                <a:ext cx="4004640" cy="801720"/>
                <a:chOff x="3351240" y="5310360"/>
                <a:chExt cx="4004640" cy="801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11080" y="5446800"/>
                  <a:ext cx="9122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7 17  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1 18 2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  2 1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51240" y="5310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20400" y="5343840"/>
                  <a:ext cx="2535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 = ( 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d 2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30720" y="5337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8440" y="547056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36320" y="5451480"/>
                  <a:ext cx="363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5600160" y="6068520"/>
            <a:ext cx="842040" cy="791640"/>
            <a:chOff x="5600160" y="6068520"/>
            <a:chExt cx="842040" cy="791640"/>
          </a:xfrm>
        </p:grpSpPr>
        <p:sp>
          <p:nvSpPr>
            <p:cNvPr id="152" name=""/>
            <p:cNvSpPr/>
            <p:nvPr/>
          </p:nvSpPr>
          <p:spPr>
            <a:xfrm>
              <a:off x="5600160" y="64004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u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013440" y="6068520"/>
              <a:ext cx="0" cy="4921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0302-CA4B-4E96-A62F-D18604A90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7874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create a Hill cipher for groups of 2 to 6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90720" y="3552840"/>
            <a:ext cx="4735440" cy="30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381560" y="3583080"/>
            <a:ext cx="1390680" cy="67608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First, enter the group size – which is the same as the matrix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1160" y="3068640"/>
            <a:ext cx="1390680" cy="676440"/>
          </a:xfrm>
          <a:prstGeom prst="wedgeRoundRectCallout">
            <a:avLst>
              <a:gd name="adj1" fmla="val -43722"/>
              <a:gd name="adj2" fmla="val 60796"/>
              <a:gd name="adj3" fmla="val 16667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CAP will generate a matrix for you or you can loa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4AAD-57B0-4C28-9651-3CDA3CBD8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8T02:53:41Z</dcterms:modified>
  <cp:revision>68</cp:revision>
  <dc:subject/>
  <dc:title>CAP Cryptographic Analysis Program</dc:title>
</cp:coreProperties>
</file>