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EDECE-09A5-4709-B1FB-5057B5AD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1575-AE4E-4E5F-9DEB-A0927713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F668-F5D3-4D70-AE7C-0128B96D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8B7D-871C-4989-AF1B-C668E147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FB57-0A76-4AA5-B959-E5627700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BEF-540A-463F-8B38-FC92AB8D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D9D0-5B16-4431-9327-582F2160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A182-8B6E-4DC1-95A0-2F7129F2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D210-D87A-480F-A6E5-F7EC0605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3481-7E52-4FB9-AF8F-78FB51EB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CDD4-9667-4FF7-B448-015283BE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9E4B-8710-445A-A418-2CF62FDD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ADAA-6999-42F4-82CD-4702E56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5352-580E-46CC-9F2C-DA0F041E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D120-355A-4F8D-A17B-24EAC9C3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6BD6-1703-4FF5-A8A6-123AE5C1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AC12-E084-4AD0-A083-F790E021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33EF-E3EF-46DA-9CD1-F8BC1E8E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742C-B471-48F6-BA50-8C5FF166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2BDE-A1BE-4E18-95AC-2FBE7C37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FD98-4F9D-4EF7-881C-E6FD7732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04F4-1801-48D5-A821-6DB55D0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01F7E-F04A-473F-BB78-3F862133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373A-FCEC-4ECF-B176-9558D77A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34D3-4E10-47FF-830A-7DF1B4667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DE70-6628-41B8-8B50-D20505285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the plaintext up into groups of a fixed size,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permutation of the integers 1 to d called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each block, permute the letters according to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is (d,f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let d = 5 and let f be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287720" y="4127400"/>
            <a:ext cx="1711800" cy="459720"/>
            <a:chOff x="1287720" y="4127400"/>
            <a:chExt cx="1711800" cy="459720"/>
          </a:xfrm>
        </p:grpSpPr>
        <p:sp>
          <p:nvSpPr>
            <p:cNvPr id="116" name=""/>
            <p:cNvSpPr/>
            <p:nvPr/>
          </p:nvSpPr>
          <p:spPr>
            <a:xfrm>
              <a:off x="128772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49600" y="4127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8640" y="4373640"/>
              <a:ext cx="89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87720" y="4660920"/>
            <a:ext cx="1711800" cy="459720"/>
            <a:chOff x="1287720" y="4660920"/>
            <a:chExt cx="1711800" cy="459720"/>
          </a:xfrm>
        </p:grpSpPr>
        <p:sp>
          <p:nvSpPr>
            <p:cNvPr id="120" name=""/>
            <p:cNvSpPr/>
            <p:nvPr/>
          </p:nvSpPr>
          <p:spPr>
            <a:xfrm>
              <a:off x="128772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49600" y="46609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8920" y="48974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297440" y="5194440"/>
            <a:ext cx="1702080" cy="459720"/>
            <a:chOff x="1297440" y="5194440"/>
            <a:chExt cx="1702080" cy="459720"/>
          </a:xfrm>
        </p:grpSpPr>
        <p:sp>
          <p:nvSpPr>
            <p:cNvPr id="124" name=""/>
            <p:cNvSpPr/>
            <p:nvPr/>
          </p:nvSpPr>
          <p:spPr>
            <a:xfrm>
              <a:off x="129744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49600" y="519444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18920" y="542124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87720" y="5727600"/>
            <a:ext cx="1693080" cy="459720"/>
            <a:chOff x="1287720" y="5727600"/>
            <a:chExt cx="1693080" cy="459720"/>
          </a:xfrm>
        </p:grpSpPr>
        <p:sp>
          <p:nvSpPr>
            <p:cNvPr id="128" name=""/>
            <p:cNvSpPr/>
            <p:nvPr/>
          </p:nvSpPr>
          <p:spPr>
            <a:xfrm>
              <a:off x="128772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30880" y="57276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19280" y="5945400"/>
              <a:ext cx="87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87720" y="6261120"/>
            <a:ext cx="1711800" cy="459720"/>
            <a:chOff x="1287720" y="6261120"/>
            <a:chExt cx="1711800" cy="459720"/>
          </a:xfrm>
        </p:grpSpPr>
        <p:sp>
          <p:nvSpPr>
            <p:cNvPr id="132" name=""/>
            <p:cNvSpPr/>
            <p:nvPr/>
          </p:nvSpPr>
          <p:spPr>
            <a:xfrm>
              <a:off x="128772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49600" y="626112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8920" y="6469200"/>
              <a:ext cx="87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65320" y="4421160"/>
            <a:ext cx="4204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 e t t h    e b a l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95720" y="4811760"/>
            <a:ext cx="853920" cy="918360"/>
            <a:chOff x="4095720" y="4811760"/>
            <a:chExt cx="853920" cy="918360"/>
          </a:xfrm>
        </p:grpSpPr>
        <p:sp>
          <p:nvSpPr>
            <p:cNvPr id="137" name=""/>
            <p:cNvSpPr/>
            <p:nvPr/>
          </p:nvSpPr>
          <p:spPr>
            <a:xfrm>
              <a:off x="4095720" y="481176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8316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429080" y="4773600"/>
            <a:ext cx="856440" cy="956520"/>
            <a:chOff x="4429080" y="4773600"/>
            <a:chExt cx="856440" cy="956520"/>
          </a:xfrm>
        </p:grpSpPr>
        <p:sp>
          <p:nvSpPr>
            <p:cNvPr id="140" name=""/>
            <p:cNvSpPr/>
            <p:nvPr/>
          </p:nvSpPr>
          <p:spPr>
            <a:xfrm>
              <a:off x="4429080" y="477360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5600" y="527040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935160" y="4773600"/>
            <a:ext cx="807840" cy="956520"/>
            <a:chOff x="3935160" y="4773600"/>
            <a:chExt cx="807840" cy="956520"/>
          </a:xfrm>
        </p:grpSpPr>
        <p:sp>
          <p:nvSpPr>
            <p:cNvPr id="143" name=""/>
            <p:cNvSpPr/>
            <p:nvPr/>
          </p:nvSpPr>
          <p:spPr>
            <a:xfrm>
              <a:off x="3935160" y="527040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62320" y="4773600"/>
              <a:ext cx="58068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72120" y="4782960"/>
            <a:ext cx="474480" cy="946800"/>
            <a:chOff x="5172120" y="4782960"/>
            <a:chExt cx="474480" cy="946800"/>
          </a:xfrm>
        </p:grpSpPr>
        <p:sp>
          <p:nvSpPr>
            <p:cNvPr id="146" name=""/>
            <p:cNvSpPr/>
            <p:nvPr/>
          </p:nvSpPr>
          <p:spPr>
            <a:xfrm>
              <a:off x="5363640" y="5270040"/>
              <a:ext cx="2829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72120" y="4782960"/>
              <a:ext cx="24732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221000" y="4773600"/>
            <a:ext cx="1198440" cy="956520"/>
            <a:chOff x="4221000" y="4773600"/>
            <a:chExt cx="1198440" cy="956520"/>
          </a:xfrm>
        </p:grpSpPr>
        <p:sp>
          <p:nvSpPr>
            <p:cNvPr id="149" name=""/>
            <p:cNvSpPr/>
            <p:nvPr/>
          </p:nvSpPr>
          <p:spPr>
            <a:xfrm>
              <a:off x="4221000" y="527040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95680" y="4773600"/>
              <a:ext cx="92376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505560" y="4802040"/>
            <a:ext cx="837720" cy="918360"/>
            <a:chOff x="6505560" y="4802040"/>
            <a:chExt cx="837720" cy="918360"/>
          </a:xfrm>
        </p:grpSpPr>
        <p:sp>
          <p:nvSpPr>
            <p:cNvPr id="152" name=""/>
            <p:cNvSpPr/>
            <p:nvPr/>
          </p:nvSpPr>
          <p:spPr>
            <a:xfrm>
              <a:off x="6505560" y="4802040"/>
              <a:ext cx="5713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336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38920" y="4764240"/>
            <a:ext cx="872640" cy="956160"/>
            <a:chOff x="6838920" y="4764240"/>
            <a:chExt cx="872640" cy="956160"/>
          </a:xfrm>
        </p:grpSpPr>
        <p:sp>
          <p:nvSpPr>
            <p:cNvPr id="155" name=""/>
            <p:cNvSpPr/>
            <p:nvPr/>
          </p:nvSpPr>
          <p:spPr>
            <a:xfrm>
              <a:off x="6838920" y="4764240"/>
              <a:ext cx="5713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45080" y="5260680"/>
              <a:ext cx="3664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345720" y="4764240"/>
            <a:ext cx="807120" cy="956160"/>
            <a:chOff x="6345720" y="4764240"/>
            <a:chExt cx="807120" cy="956160"/>
          </a:xfrm>
        </p:grpSpPr>
        <p:sp>
          <p:nvSpPr>
            <p:cNvPr id="158" name=""/>
            <p:cNvSpPr/>
            <p:nvPr/>
          </p:nvSpPr>
          <p:spPr>
            <a:xfrm>
              <a:off x="6345720" y="5260680"/>
              <a:ext cx="349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72160" y="4764240"/>
              <a:ext cx="580680" cy="58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81960" y="4773600"/>
            <a:ext cx="457560" cy="946800"/>
            <a:chOff x="7581960" y="4773600"/>
            <a:chExt cx="457560" cy="946800"/>
          </a:xfrm>
        </p:grpSpPr>
        <p:sp>
          <p:nvSpPr>
            <p:cNvPr id="161" name=""/>
            <p:cNvSpPr/>
            <p:nvPr/>
          </p:nvSpPr>
          <p:spPr>
            <a:xfrm>
              <a:off x="777348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81960" y="4773600"/>
              <a:ext cx="247680" cy="5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630120" y="4764240"/>
            <a:ext cx="1199160" cy="956160"/>
            <a:chOff x="6630120" y="4764240"/>
            <a:chExt cx="1199160" cy="956160"/>
          </a:xfrm>
        </p:grpSpPr>
        <p:sp>
          <p:nvSpPr>
            <p:cNvPr id="164" name=""/>
            <p:cNvSpPr/>
            <p:nvPr/>
          </p:nvSpPr>
          <p:spPr>
            <a:xfrm>
              <a:off x="6630120" y="5260680"/>
              <a:ext cx="26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05520" y="4764240"/>
              <a:ext cx="92376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542B-E999-4D11-83B7-A52D0CE675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Permutation under the ciphe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468520" y="3651120"/>
            <a:ext cx="500544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C95F-6E69-4D5F-B659-1C45CF74D5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3T01:56:35Z</dcterms:modified>
  <cp:revision>69</cp:revision>
  <dc:subject/>
  <dc:title>CAP Cryptographic Analysis Program</dc:title>
</cp:coreProperties>
</file>