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862C-25D5-46CB-94F4-375803BB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C60F-CC95-40D4-8678-11050419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6FDF-5EF6-408F-BFA6-47C2BE83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84D36-1B83-47AC-9AEF-5391C4F2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507F-318A-41A3-9BA8-DA120C7D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4995-8C05-4728-94CF-2BC7463F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F7A2-53E4-4AA8-AC20-3C36D89B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121C-1E80-4237-A16D-F21A1FEE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8F40-9F7B-405E-A6A5-66F564D6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EE7D-5CB3-4571-81F8-97F41F3C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8562-C00F-4013-B463-38FF0751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B19A-2E36-4357-A976-19AB913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2BBE-1FE6-4975-9F80-92712AE0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ADA7-6604-4003-AA39-6F62C4B0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CCA7-BC51-4AE3-9EBD-3A5C59BE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3558-E5BD-4D26-BB93-157E3A5F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5AFE-7131-4A61-A79B-C9EB19FA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C3E5-18D6-4154-80D2-BAE7B92D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E203-532C-4CEF-B613-2608DF9B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33482-17F5-49B3-939F-13A68A41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06C4-EFC2-4832-BC2E-9FD0F461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49AD-86DE-4125-822D-DF9FCABB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756C-608A-437E-8C1E-ED8BC036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0EB6B-122C-4738-BAF3-3ECE52A1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90B5-DA0C-45EB-BE25-0075EFC16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6819-4F79-4080-B698-DE23F26E3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ift Cipher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Shift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 cipher is easy to break by a brute force atta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ll 25 possible shifts on the ciphe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m will produce plai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o this for you (see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A2E3-00F5-4D72-8A48-085365E15E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try all 25 shifts and report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143000" y="2195640"/>
            <a:ext cx="5325840" cy="4662360"/>
            <a:chOff x="1143000" y="2195640"/>
            <a:chExt cx="5325840" cy="46623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1143000" y="2195640"/>
              <a:ext cx="5325840" cy="46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268360" y="2919240"/>
              <a:ext cx="1114560" cy="1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902680" y="3720960"/>
            <a:ext cx="1501920" cy="865440"/>
            <a:chOff x="2902680" y="3720960"/>
            <a:chExt cx="1501920" cy="865440"/>
          </a:xfrm>
        </p:grpSpPr>
        <p:sp>
          <p:nvSpPr>
            <p:cNvPr id="122" name=""/>
            <p:cNvSpPr/>
            <p:nvPr/>
          </p:nvSpPr>
          <p:spPr>
            <a:xfrm>
              <a:off x="2944800" y="3747960"/>
              <a:ext cx="1380960" cy="83844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2680" y="3720960"/>
              <a:ext cx="150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ter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06560" y="2157480"/>
            <a:ext cx="1381320" cy="838080"/>
            <a:chOff x="1906560" y="2157480"/>
            <a:chExt cx="1381320" cy="838080"/>
          </a:xfrm>
        </p:grpSpPr>
        <p:sp>
          <p:nvSpPr>
            <p:cNvPr id="125" name=""/>
            <p:cNvSpPr/>
            <p:nvPr/>
          </p:nvSpPr>
          <p:spPr>
            <a:xfrm>
              <a:off x="1906560" y="2157480"/>
              <a:ext cx="138132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6440" y="2158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05520" y="2700360"/>
            <a:ext cx="3754440" cy="3233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5230800" y="1995480"/>
            <a:ext cx="1380960" cy="838080"/>
            <a:chOff x="5230800" y="1995480"/>
            <a:chExt cx="1380960" cy="838080"/>
          </a:xfrm>
        </p:grpSpPr>
        <p:sp>
          <p:nvSpPr>
            <p:cNvPr id="129" name=""/>
            <p:cNvSpPr/>
            <p:nvPr/>
          </p:nvSpPr>
          <p:spPr>
            <a:xfrm>
              <a:off x="5230800" y="1995480"/>
              <a:ext cx="1380960" cy="838080"/>
            </a:xfrm>
            <a:prstGeom prst="wedgeRoundRectCallout">
              <a:avLst>
                <a:gd name="adj1" fmla="val -43791"/>
                <a:gd name="adj2" fmla="val 64393"/>
                <a:gd name="adj3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50680" y="199692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83080" y="4576680"/>
            <a:ext cx="2657520" cy="50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43560" y="3408480"/>
            <a:ext cx="30481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54320" y="4659480"/>
            <a:ext cx="914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BA33-9501-4290-9703-32F1FF5476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4T01:24:25Z</dcterms:modified>
  <cp:revision>35</cp:revision>
  <dc:subject/>
  <dc:title>CAP Cryptographic Analysis Program</dc:title>
</cp:coreProperties>
</file>