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E71F-1C76-46BE-B19E-A19FA3CD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9FE5-8CBA-47CD-9DF5-89DE7A3F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8422-1CD3-44A6-91DA-41D8F846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797C-7A3B-4E1C-BA03-54A74E08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902A-4F93-4323-8F4F-73802BC1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F297-2CD3-4382-B362-D1C87A3C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77A8-E08A-4A98-89C2-E1BAAA2E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0799-281E-4AC0-9E6E-448FD932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F2D1-58D7-4614-B840-DEAB0E79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310D-0959-4984-8037-F9D0B4D9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9CA8-C638-46B1-B6CA-C33CB0D2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B692-CD2E-4B69-A114-A86E3939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852A-F5B4-44B2-8B7E-78B4391D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BAE7-207F-4CB0-9E0A-9F29DA55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F131-F2CC-4198-A534-7B8C14C0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9467-9F13-4A88-A0A3-6F41D562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AA6D-3EA5-4E11-8485-15BC5565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50CC-09EA-4C8E-8DE2-BF1C715F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97B9-A762-49DE-B058-8F0952A1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2AE3-FEE6-4DA1-9A38-03AC5121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2A91-B339-4DE1-9118-C6684029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CFBD-B4CE-4AF0-B12D-606D5973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E83E-0F83-42B0-B00C-125299A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0E5E-57DA-49D8-BB76-E64B6EC9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BEC3-5F53-4F02-A034-A11EB74B73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53A8-2340-4600-B001-00C4475AC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0280" y="1650600"/>
            <a:ext cx="76471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attack can match the word with the ciphertext to discover the perm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8720" y="2367000"/>
            <a:ext cx="1087200" cy="449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11360" y="2690640"/>
            <a:ext cx="4805640" cy="4083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08080" y="4033800"/>
            <a:ext cx="1155960" cy="59220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5040" y="2819520"/>
            <a:ext cx="1155600" cy="591840"/>
          </a:xfrm>
          <a:prstGeom prst="wedgeRoundRectCallout">
            <a:avLst>
              <a:gd name="adj1" fmla="val -44504"/>
              <a:gd name="adj2" fmla="val 701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3D4C-7243-4228-BC3A-B001F6B253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5:16Z</dcterms:modified>
  <cp:revision>68</cp:revision>
  <dc:subject/>
  <dc:title>CAP Cryptographic Analysis Program</dc:title>
</cp:coreProperties>
</file>