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B3BA7-AFF6-40E0-A80C-6718F06FF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CA4A8-45D3-4B42-A6BD-FAC5D7BD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F5FC5-8566-45F4-8C87-E6C6EE45B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07B71-898A-4486-9EC0-7D275A529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2886-8ECB-45B2-91F0-40C5BB26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8FA7-F506-4189-B3A0-896A5995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4180-7FB8-4D47-882E-334E95F4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7A14-242C-44D5-A6FB-C0ED21CB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D6FE-C7B2-45A4-84C5-007459A8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394B-C890-487E-9063-955BC2A7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5DD2-096B-4FBA-AF05-52A785F7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54A7F-E9CF-403E-930D-DF515E28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1048-0EAE-47E6-9337-2404E27F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D9FD-013E-4296-BC6C-2C7111F4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25EE-C444-48FA-AF4D-4EFEFCB9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AF90-28E7-4C36-B792-387A5F72A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B87D-8AE7-4F30-A976-F743B6C28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52F7D-CD52-456F-92B6-FC043C6D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5D083-1089-4634-ADEC-B8993F74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630F9-9428-426C-A7E4-DB064C7F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0B769-BFCB-4A62-AD4E-FE591BC7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DFBAE-C88C-4340-B53B-A62D9600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B7BBC-FC99-4806-8BA3-4883ED82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A3EC7-AB13-4A80-918A-0075A220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7B49-55D0-480F-B44E-E8001F29A3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B17A-B9D5-4BB4-A607-A289E0522F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jpeg"/><Relationship Id="rId3" Type="http://schemas.openxmlformats.org/officeDocument/2006/relationships/slide" Target="slide5.xml"/><Relationship Id="rId4" Type="http://schemas.openxmlformats.org/officeDocument/2006/relationships/image" Target="../media/image3.jpeg"/><Relationship Id="rId5" Type="http://schemas.openxmlformats.org/officeDocument/2006/relationships/slide" Target="slide6.xm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image" Target="../media/image12.jpeg"/><Relationship Id="rId15" Type="http://schemas.openxmlformats.org/officeDocument/2006/relationships/image" Target="../media/image13.jpeg"/><Relationship Id="rId1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3.xml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3.xml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3.xml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3.xml"/><Relationship Id="rId3" Type="http://schemas.openxmlformats.org/officeDocument/2006/relationships/image" Target="../media/image1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eneral Help Pres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e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challenge you with random ciph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the Games menu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nstructions on the scre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the game help 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l explain the details o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ying against C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4191120" y="1676520"/>
            <a:ext cx="4647960" cy="413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2CA5B-E5BD-4A24-8C3E-7499F7B559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run standardized randomness tests against binary st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1828800" y="2895480"/>
            <a:ext cx="6858000" cy="33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09A7F-43CC-4EBA-8F37-19D97E2813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ers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 provides a tool for long integer arithm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3733920" y="2666880"/>
            <a:ext cx="377964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F499D-BE43-4038-A43F-1F90A9434D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itor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can monitor your code breaking activities and provide a record of your use of other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help you avoid redo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4724280" y="1752480"/>
            <a:ext cx="354672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FAD23-35A1-4EA7-88E7-410482D235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B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alysis Bar offers tools than may prove useful in breaking cip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5562720" y="838080"/>
            <a:ext cx="1363680" cy="556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9F619-B929-4EA7-BA48-93240B6157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A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 is a general purpose tool for the study of classical (and some contemporary) ciph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is really three related programs in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gram that will encrypt and decrypt text using your choice of several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t of tools for breaking unknown cip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ame which will generate random ciphers and challenge you to break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0320" y="5867280"/>
            <a:ext cx="74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his presentation will introduce you to the general features of 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0865C-4326-4E75-87D8-076B42A192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647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items below to jump to help on the specific 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 just continue to advance through this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3276720"/>
            <a:ext cx="2333880" cy="542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09480" y="3886200"/>
            <a:ext cx="2343240" cy="514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3520" y="4457880"/>
            <a:ext cx="2390760" cy="495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7086600" y="44197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3657600" y="5638680"/>
            <a:ext cx="2362320" cy="486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9"/>
          <a:stretch/>
        </p:blipFill>
        <p:spPr>
          <a:xfrm>
            <a:off x="609480" y="6172200"/>
            <a:ext cx="231480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>
            <a:off x="3657600" y="3276720"/>
            <a:ext cx="2371680" cy="514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3657600" y="4419720"/>
            <a:ext cx="2343240" cy="523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2"/>
          <a:stretch/>
        </p:blipFill>
        <p:spPr>
          <a:xfrm>
            <a:off x="3657600" y="3886200"/>
            <a:ext cx="2314440" cy="466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3"/>
          <a:stretch/>
        </p:blipFill>
        <p:spPr>
          <a:xfrm>
            <a:off x="3581280" y="5029200"/>
            <a:ext cx="2571840" cy="542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4"/>
          <a:stretch/>
        </p:blipFill>
        <p:spPr>
          <a:xfrm>
            <a:off x="609480" y="5029200"/>
            <a:ext cx="2333880" cy="514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5"/>
          <a:stretch/>
        </p:blipFill>
        <p:spPr>
          <a:xfrm>
            <a:off x="533520" y="5562720"/>
            <a:ext cx="2571480" cy="51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65EDD-C48B-47B1-AA84-BCFCF8F871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819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first open CAP this is the main wind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320" y="6248520"/>
            <a:ext cx="1419120" cy="514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581280" y="1981080"/>
            <a:ext cx="5257800" cy="459576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7086600" y="2286000"/>
            <a:ext cx="1219320" cy="762120"/>
            <a:chOff x="7086600" y="2286000"/>
            <a:chExt cx="1219320" cy="762120"/>
          </a:xfrm>
        </p:grpSpPr>
        <p:sp>
          <p:nvSpPr>
            <p:cNvPr id="134" name=""/>
            <p:cNvSpPr/>
            <p:nvPr/>
          </p:nvSpPr>
          <p:spPr>
            <a:xfrm>
              <a:off x="7086600" y="2286000"/>
              <a:ext cx="1219320" cy="7621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64360" y="2286000"/>
              <a:ext cx="113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Plain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7012440" y="3886200"/>
            <a:ext cx="1310040" cy="762120"/>
            <a:chOff x="7012440" y="3886200"/>
            <a:chExt cx="1310040" cy="762120"/>
          </a:xfrm>
        </p:grpSpPr>
        <p:sp>
          <p:nvSpPr>
            <p:cNvPr id="137" name=""/>
            <p:cNvSpPr/>
            <p:nvPr/>
          </p:nvSpPr>
          <p:spPr>
            <a:xfrm>
              <a:off x="7022880" y="3886200"/>
              <a:ext cx="1219320" cy="7621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12440" y="3886200"/>
              <a:ext cx="131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Cipher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600200" y="626436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4D5DC-3D0D-44EC-86F3-E0517F3CD3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intext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intext men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you to op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, print, or conve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i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86200" y="1981080"/>
            <a:ext cx="4414680" cy="3886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320" y="6248520"/>
            <a:ext cx="1419120" cy="514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600200" y="626436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4191120" y="1981080"/>
            <a:ext cx="990360" cy="533520"/>
            <a:chOff x="4191120" y="1981080"/>
            <a:chExt cx="990360" cy="533520"/>
          </a:xfrm>
        </p:grpSpPr>
        <p:sp>
          <p:nvSpPr>
            <p:cNvPr id="146" name=""/>
            <p:cNvSpPr/>
            <p:nvPr/>
          </p:nvSpPr>
          <p:spPr>
            <a:xfrm>
              <a:off x="4191120" y="1981080"/>
              <a:ext cx="990360" cy="533520"/>
            </a:xfrm>
            <a:prstGeom prst="wedgeRoundRectCallout">
              <a:avLst>
                <a:gd name="adj1" fmla="val -43268"/>
                <a:gd name="adj2" fmla="val 78569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92560" y="1981080"/>
              <a:ext cx="942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Conver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ASC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55520" y="2819520"/>
            <a:ext cx="4340160" cy="3200400"/>
            <a:chOff x="155520" y="2819520"/>
            <a:chExt cx="4340160" cy="3200400"/>
          </a:xfrm>
        </p:grpSpPr>
        <p:sp>
          <p:nvSpPr>
            <p:cNvPr id="149" name=""/>
            <p:cNvSpPr/>
            <p:nvPr/>
          </p:nvSpPr>
          <p:spPr>
            <a:xfrm>
              <a:off x="3962520" y="2819520"/>
              <a:ext cx="533160" cy="2286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5"/>
            <a:stretch/>
          </p:blipFill>
          <p:spPr>
            <a:xfrm>
              <a:off x="2133720" y="3200400"/>
              <a:ext cx="157788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55520" y="3505320"/>
              <a:ext cx="1968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verting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umbers is useful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 a variety of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iph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006F2-B6A1-471F-BE4A-AD58648E4E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phertext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iphertext menu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you to ope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, print, or conve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ipher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962520" y="2133720"/>
            <a:ext cx="4038480" cy="35258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320" y="6248520"/>
            <a:ext cx="1419120" cy="514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600200" y="626436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C2928-EC54-4CF9-BCAF-3B8838E82C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ing is the process of separating the ciphertext into segments of fixed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kes it easier to read without giving away standard word spa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181480" y="914400"/>
            <a:ext cx="2390760" cy="33242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134320" y="4340160"/>
            <a:ext cx="25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Block fr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nu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987840" y="2971800"/>
            <a:ext cx="3588480" cy="1521000"/>
            <a:chOff x="987840" y="2971800"/>
            <a:chExt cx="3588480" cy="1521000"/>
          </a:xfrm>
        </p:grpSpPr>
        <p:sp>
          <p:nvSpPr>
            <p:cNvPr id="162" name=""/>
            <p:cNvSpPr/>
            <p:nvPr/>
          </p:nvSpPr>
          <p:spPr>
            <a:xfrm>
              <a:off x="1197000" y="3407040"/>
              <a:ext cx="3142800" cy="108576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87840" y="2971800"/>
              <a:ext cx="35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ipherText without spac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97440" y="3505320"/>
              <a:ext cx="289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pnzyklttekwpovbz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uioittnbzyqaceero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077840" y="4654440"/>
            <a:ext cx="3429000" cy="1521000"/>
            <a:chOff x="1077840" y="4654440"/>
            <a:chExt cx="3429000" cy="1521000"/>
          </a:xfrm>
        </p:grpSpPr>
        <p:sp>
          <p:nvSpPr>
            <p:cNvPr id="166" name=""/>
            <p:cNvSpPr/>
            <p:nvPr/>
          </p:nvSpPr>
          <p:spPr>
            <a:xfrm>
              <a:off x="1077840" y="5089680"/>
              <a:ext cx="3429000" cy="108576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97640" y="4654440"/>
              <a:ext cx="33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ipherText with block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74040" y="5187960"/>
              <a:ext cx="3119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pnzy kltte kwpov bz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uioit tnbzy qacee ro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34ED8-528F-4153-8823-8C9BC71FD1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phers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iphers Menu lists all the possible algorithms which CAP is capable of run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are being added all the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mplement a cipher, click 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s name in the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2827440" cy="46483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62240" y="4267080"/>
            <a:ext cx="400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Help on each ciph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vailable from the main help scre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from the help feature of ea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cip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031A3-6A77-447D-A708-0612F15D05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solve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solve is not active at this time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343560"/>
            <a:ext cx="1419120" cy="514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1523880" y="635940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D8094-F433-48E0-8EC3-CA0E3AF781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12T00:45:37Z</dcterms:modified>
  <cp:revision>23</cp:revision>
  <dc:subject/>
  <dc:title>CAP Cryptographic Analysis Program</dc:title>
</cp:coreProperties>
</file>