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51C5-F5EF-4CA3-911C-079FAD74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89F0-4BE1-40A1-99F6-BA086C68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E430-4CB0-4C2D-975F-FC2AAE89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B8DA-AFC8-485A-B5ED-9E562FB1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B475-0060-4A77-A042-583D90FA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0EF6-3CC3-4F74-9ECE-F144B32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9A23-102A-4522-8043-B07CA852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5C0-A482-41BE-97CD-5B9E7CA1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6E4E-4F92-4E51-8032-A859F0A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5871-1694-4B2C-8EAF-DC303D4C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293-B891-4812-8C24-753D20E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2177-E600-4C21-B223-43D48C52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0E79-5084-4D5D-BC26-F29E97C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BEBA-3F1B-4282-9B5E-4F1D4AB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FDC-6604-4CA8-869F-BE8214C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3B5-18FD-4B10-8ACA-0F52BA96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A2ED-E0B2-4CFA-88C2-F9A36B90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6941-6CCE-4445-AE61-AC0DAF3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2B2B-5414-4A6C-9D7B-AB00653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8F7F-8472-4605-8A75-5261B27C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E811-7F38-45F1-BCB9-996A128F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A666-233C-4F1B-874F-5AD0830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30DE-9B98-4B93-A969-A49225E9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1610-60CE-4016-8E57-DA6E3F3B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571-171A-4219-ACA0-ACB8F93C0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9AB3-6270-413C-BD13-1995A2FFC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ffine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ine cipher is another version of a substitution ci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etter is assigned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0, B = 1, . . ., Z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umbers are selected (a, b) between 0 and 25 such that the gcd(a,26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p and c represent letters (p,c are numbers between 0 and 26) where p is a plaintext letter and c is a ciphertext letter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313440" y="4905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ap + b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55515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 = a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c - b)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095A-630F-431C-8335-C878FC18C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key (a,b) = (7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d(7,26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6 = 15 (since 7 x 15 = 105 and 105 mod 26 =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4880" y="3535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The general encipher/decipher equa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5960" y="408780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 = 7p + 3 mod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97360" y="455292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hot” is 7 14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33040" y="506412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h)     = 7*7 + 3 mod 26 = 52 mod 26 = 0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3040" y="545940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o) = 7*14 + 3 mod 26 = 98 mod 26 = 23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8482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Arial"/>
              </a:rPr>
              <a:t>c(t)  = 7*19 + 3 mod 26 = 133 mod 26 = 6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55600" y="6246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BECD-23B7-449B-ABF2-CDB04F3A7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ine Cipher in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57080"/>
            <a:ext cx="736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Affine option under the cipher menu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0160" y="2886120"/>
            <a:ext cx="7283520" cy="3224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43640" y="2766960"/>
            <a:ext cx="1164960" cy="784440"/>
          </a:xfrm>
          <a:prstGeom prst="wedgeRoundRectCallout">
            <a:avLst>
              <a:gd name="adj1" fmla="val -45097"/>
              <a:gd name="adj2" fmla="val 653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 the two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35040" y="2305080"/>
            <a:ext cx="1165320" cy="614160"/>
          </a:xfrm>
          <a:prstGeom prst="wedgeRoundRectCallout">
            <a:avLst>
              <a:gd name="adj1" fmla="val -45097"/>
              <a:gd name="adj2" fmla="val 972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will set up your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0" y="2287440"/>
            <a:ext cx="1560600" cy="890640"/>
          </a:xfrm>
          <a:prstGeom prst="wedgeRoundRectCallout">
            <a:avLst>
              <a:gd name="adj1" fmla="val -55699"/>
              <a:gd name="adj2" fmla="val 9706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ror message if you fail to select the correct key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206280" y="620388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46B6-7EB2-42C1-8CCE-56BE682BB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20T08:51:09Z</dcterms:modified>
  <cp:revision>45</cp:revision>
  <dc:subject/>
  <dc:title>CAP Cryptographic Analysis Program</dc:title>
</cp:coreProperties>
</file>