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DDD9-0E92-43E5-969E-72786A55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CB1E-BC40-48E7-A361-A903D136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9441-2254-426D-99CE-CFE208DD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DB42-F4C1-4F7D-810F-5318A261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56BF-2511-4EDF-B1C5-F880E893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297-BFE8-44A9-B6E7-53652E1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3DC-6A46-4B1A-B3DC-7BB58CC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A650-F604-43F9-8B52-A454C02A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B7B5-56A2-41EA-B42F-8E5D2792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C90-673E-4880-B612-53AB89E6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2EFA-3B16-49B5-AD45-E3BAA41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0399-CC08-4ADC-BD4A-79381E80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73A-4BC8-4582-9BFF-F08BA5C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8BF1-4227-4F16-9872-8C29DF5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243-7C51-4C8B-9806-0C35B450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6140-BE52-4EF2-950A-A7AD0267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259-1BA8-4378-A974-5AF495EF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FE78-D35C-41B3-A7D1-DA0335DE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A4A1-A224-42C2-BFBE-56505A23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EA6A1-F895-498B-8F4A-E0479A8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394D-63EC-413D-84E1-EE99394F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50EE-E1C8-4113-8CC7-ED051DCB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4E94F-E608-4D5D-97CF-4EB7B67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20F7-08A7-4B90-9B53-BA9AF8DA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E31A-7839-484A-9460-AAB307ABA0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6DD-D971-4C9B-A458-4F6B9A7D7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mple Shift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8000" y="177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000" y="1326960"/>
            <a:ext cx="7261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encipher/decipher using a simple shif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70200" y="2114640"/>
            <a:ext cx="5121360" cy="4476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7680" y="23162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29163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imple Shi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under the Ciphers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7960" y="3959280"/>
            <a:ext cx="3124440" cy="842760"/>
            <a:chOff x="237960" y="3959280"/>
            <a:chExt cx="3124440" cy="842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237960" y="3959280"/>
              <a:ext cx="3124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981160" y="4416480"/>
              <a:ext cx="238320" cy="10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5640" y="49640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hif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" y="549756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En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40" y="4029120"/>
            <a:ext cx="542880" cy="295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30400" y="276372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57040" y="4506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nxnxfxfruq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B2E8-1F2D-43D5-919F-49F7920707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4T22:44:56Z</dcterms:modified>
  <cp:revision>68</cp:revision>
  <dc:subject/>
  <dc:title>CAP Cryptographic Analysis Program</dc:title>
</cp:coreProperties>
</file>