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D95AA-2CC2-49D4-8AED-AD12256A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050C-B8D2-419E-887D-74D88047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493F-2304-445D-9C93-9CFD70F0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C2F1-D0AC-4728-AEA2-C8AA70DC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BC40-E0ED-47EA-AD88-7F9A069F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077E-FDB1-4547-8722-17BC1C8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85F7-080C-421D-B096-B1486C3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D1B5-E493-431F-9C12-A11F44CD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46A5-7810-444D-860E-6FE4F44C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5043-A548-46C9-82D0-5D2FA556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B5F-B8CA-4307-A975-1B41CEB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4ABA-5B09-4D74-ABD7-8AF5F3B7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9357-585D-43BC-B60C-4D1014A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74E8-11BE-42DA-A99C-7B2064D0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99FB-9DB1-4462-8D22-DB332A25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1FF9-DCF2-4ADB-AE0E-E53CFA71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FC9F-11DF-4B09-A7D2-E5F17B87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66765-22D8-4709-82B0-C95D6E0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5E00-9F03-4431-A2F3-86DEF5CF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5A66-AE78-40F4-AA9F-BB56E7EE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AD4A-8414-4A29-AC6C-19C86425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5A67-8384-4195-A34B-381138A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4C06-5107-4927-ABFB-FB9A0BD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97DC-05EE-4D0E-A99D-FF79CF64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DB4E-1C0A-448B-A96F-05887DA2E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E75-372E-4410-A5B1-771BF67A8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yfair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air is a polygraphic method designed to invalidate single frequency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is a 5 x 5 matrix of letters (j is not used) arranged by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keyword is harpsicord, the matrix ke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992600" y="4933800"/>
            <a:ext cx="1338840" cy="278280"/>
            <a:chOff x="1992600" y="4933800"/>
            <a:chExt cx="1338840" cy="278280"/>
          </a:xfrm>
        </p:grpSpPr>
        <p:grpSp>
          <p:nvGrpSpPr>
            <p:cNvPr id="116" name=""/>
            <p:cNvGrpSpPr/>
            <p:nvPr/>
          </p:nvGrpSpPr>
          <p:grpSpPr>
            <a:xfrm>
              <a:off x="2792880" y="4933800"/>
              <a:ext cx="272160" cy="278280"/>
              <a:chOff x="2792880" y="4933800"/>
              <a:chExt cx="272160" cy="278280"/>
            </a:xfrm>
          </p:grpSpPr>
          <p:sp>
            <p:nvSpPr>
              <p:cNvPr id="117" name=""/>
              <p:cNvSpPr/>
              <p:nvPr/>
            </p:nvSpPr>
            <p:spPr>
              <a:xfrm>
                <a:off x="279720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928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526120" y="4933800"/>
              <a:ext cx="272160" cy="278280"/>
              <a:chOff x="2526120" y="4933800"/>
              <a:chExt cx="272160" cy="278280"/>
            </a:xfrm>
          </p:grpSpPr>
          <p:sp>
            <p:nvSpPr>
              <p:cNvPr id="120" name=""/>
              <p:cNvSpPr/>
              <p:nvPr/>
            </p:nvSpPr>
            <p:spPr>
              <a:xfrm>
                <a:off x="2530440" y="493380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61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68720" y="4933800"/>
              <a:ext cx="272160" cy="278280"/>
              <a:chOff x="2268720" y="4933800"/>
              <a:chExt cx="272160" cy="278280"/>
            </a:xfrm>
          </p:grpSpPr>
          <p:sp>
            <p:nvSpPr>
              <p:cNvPr id="123" name=""/>
              <p:cNvSpPr/>
              <p:nvPr/>
            </p:nvSpPr>
            <p:spPr>
              <a:xfrm>
                <a:off x="227304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6872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92600" y="4933800"/>
              <a:ext cx="272160" cy="278280"/>
              <a:chOff x="1992600" y="4933800"/>
              <a:chExt cx="272160" cy="2782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9692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9260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059280" y="4933800"/>
              <a:ext cx="272160" cy="278280"/>
              <a:chOff x="3059280" y="4933800"/>
              <a:chExt cx="272160" cy="278280"/>
            </a:xfrm>
          </p:grpSpPr>
          <p:sp>
            <p:nvSpPr>
              <p:cNvPr id="129" name=""/>
              <p:cNvSpPr/>
              <p:nvPr/>
            </p:nvSpPr>
            <p:spPr>
              <a:xfrm>
                <a:off x="3063600" y="493380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59280" y="49356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92600" y="5200560"/>
            <a:ext cx="1338840" cy="278280"/>
            <a:chOff x="1992600" y="5200560"/>
            <a:chExt cx="1338840" cy="278280"/>
          </a:xfrm>
        </p:grpSpPr>
        <p:grpSp>
          <p:nvGrpSpPr>
            <p:cNvPr id="132" name=""/>
            <p:cNvGrpSpPr/>
            <p:nvPr/>
          </p:nvGrpSpPr>
          <p:grpSpPr>
            <a:xfrm>
              <a:off x="2792880" y="5200560"/>
              <a:ext cx="272160" cy="278280"/>
              <a:chOff x="2792880" y="5200560"/>
              <a:chExt cx="272160" cy="27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79720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928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526120" y="5200560"/>
              <a:ext cx="272160" cy="278280"/>
              <a:chOff x="2526120" y="5200560"/>
              <a:chExt cx="272160" cy="27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530440" y="52005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61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268720" y="5200560"/>
              <a:ext cx="272160" cy="278280"/>
              <a:chOff x="2268720" y="5200560"/>
              <a:chExt cx="272160" cy="27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227304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6872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92600" y="5200560"/>
              <a:ext cx="272160" cy="278280"/>
              <a:chOff x="1992600" y="5200560"/>
              <a:chExt cx="272160" cy="27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99692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9260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059280" y="5200560"/>
              <a:ext cx="272160" cy="278280"/>
              <a:chOff x="3059280" y="5200560"/>
              <a:chExt cx="272160" cy="27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63600" y="52005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5202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1992600" y="5467320"/>
            <a:ext cx="1338840" cy="277920"/>
            <a:chOff x="1992600" y="5467320"/>
            <a:chExt cx="1338840" cy="277920"/>
          </a:xfrm>
        </p:grpSpPr>
        <p:grpSp>
          <p:nvGrpSpPr>
            <p:cNvPr id="148" name=""/>
            <p:cNvGrpSpPr/>
            <p:nvPr/>
          </p:nvGrpSpPr>
          <p:grpSpPr>
            <a:xfrm>
              <a:off x="2792880" y="5467320"/>
              <a:ext cx="272160" cy="277920"/>
              <a:chOff x="2792880" y="5467320"/>
              <a:chExt cx="272160" cy="277920"/>
            </a:xfrm>
          </p:grpSpPr>
          <p:sp>
            <p:nvSpPr>
              <p:cNvPr id="149" name=""/>
              <p:cNvSpPr/>
              <p:nvPr/>
            </p:nvSpPr>
            <p:spPr>
              <a:xfrm>
                <a:off x="279720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928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26120" y="5467320"/>
              <a:ext cx="272160" cy="277920"/>
              <a:chOff x="2526120" y="5467320"/>
              <a:chExt cx="272160" cy="277920"/>
            </a:xfrm>
          </p:grpSpPr>
          <p:sp>
            <p:nvSpPr>
              <p:cNvPr id="152" name=""/>
              <p:cNvSpPr/>
              <p:nvPr/>
            </p:nvSpPr>
            <p:spPr>
              <a:xfrm>
                <a:off x="2530440" y="5467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261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68720" y="5467320"/>
              <a:ext cx="272160" cy="277920"/>
              <a:chOff x="2268720" y="5467320"/>
              <a:chExt cx="272160" cy="277920"/>
            </a:xfrm>
          </p:grpSpPr>
          <p:sp>
            <p:nvSpPr>
              <p:cNvPr id="155" name=""/>
              <p:cNvSpPr/>
              <p:nvPr/>
            </p:nvSpPr>
            <p:spPr>
              <a:xfrm>
                <a:off x="227304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6872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1992600" y="5467320"/>
              <a:ext cx="272160" cy="277920"/>
              <a:chOff x="1992600" y="5467320"/>
              <a:chExt cx="272160" cy="277920"/>
            </a:xfrm>
          </p:grpSpPr>
          <p:sp>
            <p:nvSpPr>
              <p:cNvPr id="158" name=""/>
              <p:cNvSpPr/>
              <p:nvPr/>
            </p:nvSpPr>
            <p:spPr>
              <a:xfrm>
                <a:off x="199692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9260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059280" y="5467320"/>
              <a:ext cx="272160" cy="277920"/>
              <a:chOff x="3059280" y="5467320"/>
              <a:chExt cx="272160" cy="277920"/>
            </a:xfrm>
          </p:grpSpPr>
          <p:sp>
            <p:nvSpPr>
              <p:cNvPr id="161" name=""/>
              <p:cNvSpPr/>
              <p:nvPr/>
            </p:nvSpPr>
            <p:spPr>
              <a:xfrm>
                <a:off x="3063600" y="5467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9280" y="5468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1992600" y="5734080"/>
            <a:ext cx="1338840" cy="277920"/>
            <a:chOff x="1992600" y="5734080"/>
            <a:chExt cx="1338840" cy="277920"/>
          </a:xfrm>
        </p:grpSpPr>
        <p:grpSp>
          <p:nvGrpSpPr>
            <p:cNvPr id="164" name=""/>
            <p:cNvGrpSpPr/>
            <p:nvPr/>
          </p:nvGrpSpPr>
          <p:grpSpPr>
            <a:xfrm>
              <a:off x="2792880" y="5734080"/>
              <a:ext cx="272160" cy="277920"/>
              <a:chOff x="2792880" y="5734080"/>
              <a:chExt cx="272160" cy="27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9720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928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526120" y="5734080"/>
              <a:ext cx="272160" cy="277920"/>
              <a:chOff x="2526120" y="5734080"/>
              <a:chExt cx="272160" cy="27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2530440" y="5734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5261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268720" y="5734080"/>
              <a:ext cx="272160" cy="277920"/>
              <a:chOff x="2268720" y="5734080"/>
              <a:chExt cx="272160" cy="277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304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6872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992600" y="5734080"/>
              <a:ext cx="272160" cy="277920"/>
              <a:chOff x="1992600" y="5734080"/>
              <a:chExt cx="272160" cy="277920"/>
            </a:xfrm>
          </p:grpSpPr>
          <p:sp>
            <p:nvSpPr>
              <p:cNvPr id="174" name=""/>
              <p:cNvSpPr/>
              <p:nvPr/>
            </p:nvSpPr>
            <p:spPr>
              <a:xfrm>
                <a:off x="199692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9260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59280" y="5734080"/>
              <a:ext cx="272160" cy="277920"/>
              <a:chOff x="3059280" y="573408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63600" y="5734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59280" y="5735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1992600" y="5991120"/>
            <a:ext cx="1338840" cy="278280"/>
            <a:chOff x="1992600" y="5991120"/>
            <a:chExt cx="1338840" cy="278280"/>
          </a:xfrm>
        </p:grpSpPr>
        <p:grpSp>
          <p:nvGrpSpPr>
            <p:cNvPr id="180" name=""/>
            <p:cNvGrpSpPr/>
            <p:nvPr/>
          </p:nvGrpSpPr>
          <p:grpSpPr>
            <a:xfrm>
              <a:off x="2792880" y="5991120"/>
              <a:ext cx="272160" cy="278280"/>
              <a:chOff x="2792880" y="5991120"/>
              <a:chExt cx="272160" cy="27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9720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928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526120" y="5991120"/>
              <a:ext cx="272160" cy="278280"/>
              <a:chOff x="2526120" y="5991120"/>
              <a:chExt cx="272160" cy="27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30440" y="599112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261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68720" y="5991120"/>
              <a:ext cx="272160" cy="278280"/>
              <a:chOff x="2268720" y="5991120"/>
              <a:chExt cx="272160" cy="27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227304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6872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992600" y="5991120"/>
              <a:ext cx="272160" cy="278280"/>
              <a:chOff x="1992600" y="5991120"/>
              <a:chExt cx="272160" cy="27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199692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9260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59280" y="5991120"/>
              <a:ext cx="272160" cy="278280"/>
              <a:chOff x="3059280" y="5991120"/>
              <a:chExt cx="272160" cy="27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063600" y="599112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59280" y="5992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/>
          <p:nvPr/>
        </p:nvSpPr>
        <p:spPr>
          <a:xfrm>
            <a:off x="3598560" y="5227560"/>
            <a:ext cx="511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E:  the second R in harpsic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63FB-3CDC-461D-8FA9-96C9E95AD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fai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ext is pre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’s are replaced with i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ll letter such as q is placed between any identical pairs of letters so that “tt” becomes “tq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laintext has an odd number of letters, the null letter is added on to the e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text is produced by looking at each pair of letters in the plaintext 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row in the key matrix, then they are replaced by the characters to their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the same column then they are replaced by the letters below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e in different rows and columns then they are replaced by the letters found on the other two corners of a rectangle formed by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AB5F-640B-4A4F-8C50-021CEBA86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83600" cy="26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letter pair: “RE”  becomes “EB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rows circle back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selves so the letter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LQ” becomes “M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201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5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6488280" y="4821120"/>
            <a:ext cx="280800" cy="284400"/>
            <a:chOff x="6488280" y="4821120"/>
            <a:chExt cx="280800" cy="284400"/>
          </a:xfrm>
        </p:grpSpPr>
        <p:sp>
          <p:nvSpPr>
            <p:cNvPr id="282" name=""/>
            <p:cNvSpPr/>
            <p:nvPr/>
          </p:nvSpPr>
          <p:spPr>
            <a:xfrm>
              <a:off x="650232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828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480" y="4287960"/>
            <a:ext cx="280800" cy="283680"/>
            <a:chOff x="5964480" y="4287960"/>
            <a:chExt cx="280800" cy="283680"/>
          </a:xfrm>
        </p:grpSpPr>
        <p:sp>
          <p:nvSpPr>
            <p:cNvPr id="285" name=""/>
            <p:cNvSpPr/>
            <p:nvPr/>
          </p:nvSpPr>
          <p:spPr>
            <a:xfrm>
              <a:off x="597852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448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697720" y="4287960"/>
            <a:ext cx="280800" cy="283680"/>
            <a:chOff x="5697720" y="4287960"/>
            <a:chExt cx="280800" cy="283680"/>
          </a:xfrm>
        </p:grpSpPr>
        <p:sp>
          <p:nvSpPr>
            <p:cNvPr id="288" name=""/>
            <p:cNvSpPr/>
            <p:nvPr/>
          </p:nvSpPr>
          <p:spPr>
            <a:xfrm>
              <a:off x="57117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77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421600" y="4830840"/>
            <a:ext cx="280800" cy="283680"/>
            <a:chOff x="5421600" y="4830840"/>
            <a:chExt cx="280800" cy="283680"/>
          </a:xfrm>
        </p:grpSpPr>
        <p:sp>
          <p:nvSpPr>
            <p:cNvPr id="291" name=""/>
            <p:cNvSpPr/>
            <p:nvPr/>
          </p:nvSpPr>
          <p:spPr>
            <a:xfrm>
              <a:off x="543564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160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958000" y="4281480"/>
            <a:ext cx="280800" cy="283680"/>
            <a:chOff x="5958000" y="4281480"/>
            <a:chExt cx="280800" cy="283680"/>
          </a:xfrm>
        </p:grpSpPr>
        <p:sp>
          <p:nvSpPr>
            <p:cNvPr id="294" name=""/>
            <p:cNvSpPr/>
            <p:nvPr/>
          </p:nvSpPr>
          <p:spPr>
            <a:xfrm>
              <a:off x="5972040" y="42987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58000" y="42814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1520" y="4287960"/>
            <a:ext cx="280800" cy="283680"/>
            <a:chOff x="6221520" y="4287960"/>
            <a:chExt cx="280800" cy="283680"/>
          </a:xfrm>
        </p:grpSpPr>
        <p:sp>
          <p:nvSpPr>
            <p:cNvPr id="297" name=""/>
            <p:cNvSpPr/>
            <p:nvPr/>
          </p:nvSpPr>
          <p:spPr>
            <a:xfrm>
              <a:off x="6235560" y="43052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1520" y="42879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421600" y="4821120"/>
            <a:ext cx="280800" cy="284400"/>
            <a:chOff x="5421600" y="4821120"/>
            <a:chExt cx="280800" cy="284400"/>
          </a:xfrm>
        </p:grpSpPr>
        <p:sp>
          <p:nvSpPr>
            <p:cNvPr id="300" name=""/>
            <p:cNvSpPr/>
            <p:nvPr/>
          </p:nvSpPr>
          <p:spPr>
            <a:xfrm>
              <a:off x="5435640" y="4838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1600" y="4821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697720" y="4830840"/>
            <a:ext cx="280800" cy="283680"/>
            <a:chOff x="5697720" y="4830840"/>
            <a:chExt cx="280800" cy="283680"/>
          </a:xfrm>
        </p:grpSpPr>
        <p:sp>
          <p:nvSpPr>
            <p:cNvPr id="303" name=""/>
            <p:cNvSpPr/>
            <p:nvPr/>
          </p:nvSpPr>
          <p:spPr>
            <a:xfrm>
              <a:off x="5711760" y="48481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7720" y="4830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C66F-2D37-46F0-AFB4-8F6A704A3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02604 -4.44444E-006 E">
                                      <p:cBhvr>
                                        <p:cTn id="49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2812 -3.33333E-006 E">
                                      <p:cBhvr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11111E-006 L 0.03021 -1.11111E-006 E">
                                      <p:cBhvr>
                                        <p:cTn id="73" dur="1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-0.03073 -0.04931 C -0.03733 -0.06042 -0.04688 -0.06644 -0.05695 -0.06644 C -0.06841 -0.06644 -0.07743 -0.06042 -0.08403 -0.04931 L -0.11459 4.44444E-006 E">
                                      <p:cBhvr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 using the keyword array formed from “softwa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intext letter pair “AL” becomes “D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columns circle b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mselves, the let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“TY” becomes “B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0960" y="4594320"/>
            <a:ext cx="1338840" cy="1334880"/>
            <a:chOff x="5430960" y="4594320"/>
            <a:chExt cx="1338840" cy="1334880"/>
          </a:xfrm>
        </p:grpSpPr>
        <p:grpSp>
          <p:nvGrpSpPr>
            <p:cNvPr id="308" name=""/>
            <p:cNvGrpSpPr/>
            <p:nvPr/>
          </p:nvGrpSpPr>
          <p:grpSpPr>
            <a:xfrm>
              <a:off x="5430960" y="4594320"/>
              <a:ext cx="1338840" cy="277920"/>
              <a:chOff x="5430960" y="4594320"/>
              <a:chExt cx="1338840" cy="277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6231240" y="4594320"/>
                <a:ext cx="272160" cy="277920"/>
                <a:chOff x="6231240" y="4594320"/>
                <a:chExt cx="272160" cy="277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23556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312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64480" y="4594320"/>
                <a:ext cx="272160" cy="277920"/>
                <a:chOff x="5964480" y="4594320"/>
                <a:chExt cx="272160" cy="277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968800" y="459432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9644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7080" y="4594320"/>
                <a:ext cx="272160" cy="277920"/>
                <a:chOff x="5707080" y="4594320"/>
                <a:chExt cx="272160" cy="2779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71140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0708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430960" y="4594320"/>
                <a:ext cx="272160" cy="277920"/>
                <a:chOff x="5430960" y="4594320"/>
                <a:chExt cx="272160" cy="277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43528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3096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497640" y="4594320"/>
                <a:ext cx="272160" cy="277920"/>
                <a:chOff x="6497640" y="4594320"/>
                <a:chExt cx="272160" cy="2779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501960" y="459432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497640" y="45957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5430960" y="4860720"/>
              <a:ext cx="1338840" cy="277920"/>
              <a:chOff x="5430960" y="4860720"/>
              <a:chExt cx="1338840" cy="277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231240" y="4860720"/>
                <a:ext cx="272160" cy="277920"/>
                <a:chOff x="6231240" y="4860720"/>
                <a:chExt cx="272160" cy="2779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623556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2312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964480" y="4860720"/>
                <a:ext cx="272160" cy="277920"/>
                <a:chOff x="5964480" y="4860720"/>
                <a:chExt cx="272160" cy="2779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968800" y="486072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44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07080" y="4860720"/>
                <a:ext cx="272160" cy="277920"/>
                <a:chOff x="5707080" y="4860720"/>
                <a:chExt cx="272160" cy="277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71140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0708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5430960" y="4860720"/>
                <a:ext cx="272160" cy="277920"/>
                <a:chOff x="5430960" y="4860720"/>
                <a:chExt cx="272160" cy="277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543528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43096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6497640" y="4860720"/>
                <a:ext cx="272160" cy="277920"/>
                <a:chOff x="6497640" y="4860720"/>
                <a:chExt cx="272160" cy="2779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6501960" y="486072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497640" y="48621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430960" y="5127480"/>
              <a:ext cx="1338840" cy="277920"/>
              <a:chOff x="5430960" y="5127480"/>
              <a:chExt cx="1338840" cy="277920"/>
            </a:xfrm>
          </p:grpSpPr>
          <p:grpSp>
            <p:nvGrpSpPr>
              <p:cNvPr id="341" name=""/>
              <p:cNvGrpSpPr/>
              <p:nvPr/>
            </p:nvGrpSpPr>
            <p:grpSpPr>
              <a:xfrm>
                <a:off x="6231240" y="5127480"/>
                <a:ext cx="272160" cy="277920"/>
                <a:chOff x="6231240" y="5127480"/>
                <a:chExt cx="272160" cy="2779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3556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312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964480" y="5127480"/>
                <a:ext cx="272160" cy="277920"/>
                <a:chOff x="5964480" y="5127480"/>
                <a:chExt cx="272160" cy="27792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968800" y="512748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644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5707080" y="5127480"/>
                <a:ext cx="272160" cy="277920"/>
                <a:chOff x="5707080" y="5127480"/>
                <a:chExt cx="272160" cy="2779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71140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0708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430960" y="5127480"/>
                <a:ext cx="272160" cy="277920"/>
                <a:chOff x="5430960" y="5127480"/>
                <a:chExt cx="272160" cy="277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3528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3096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6497640" y="5127480"/>
                <a:ext cx="272160" cy="277920"/>
                <a:chOff x="6497640" y="5127480"/>
                <a:chExt cx="272160" cy="2779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501960" y="512748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497640" y="5128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5430960" y="5394240"/>
              <a:ext cx="1338840" cy="277920"/>
              <a:chOff x="5430960" y="5394240"/>
              <a:chExt cx="1338840" cy="2779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31240" y="5394240"/>
                <a:ext cx="272160" cy="277920"/>
                <a:chOff x="6231240" y="5394240"/>
                <a:chExt cx="272160" cy="2779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3556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312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964480" y="5394240"/>
                <a:ext cx="272160" cy="277920"/>
                <a:chOff x="5964480" y="5394240"/>
                <a:chExt cx="272160" cy="277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968800" y="5394240"/>
                  <a:ext cx="26676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9644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07080" y="5394240"/>
                <a:ext cx="272160" cy="277920"/>
                <a:chOff x="5707080" y="5394240"/>
                <a:chExt cx="272160" cy="2779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1140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0708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430960" y="5394240"/>
                <a:ext cx="272160" cy="277920"/>
                <a:chOff x="5430960" y="5394240"/>
                <a:chExt cx="272160" cy="277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43528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3096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97640" y="5394240"/>
                <a:ext cx="272160" cy="277920"/>
                <a:chOff x="6497640" y="5394240"/>
                <a:chExt cx="272160" cy="2779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01960" y="5394240"/>
                  <a:ext cx="266400" cy="266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97640" y="5395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430960" y="5651280"/>
              <a:ext cx="1338840" cy="277920"/>
              <a:chOff x="5430960" y="5651280"/>
              <a:chExt cx="1338840" cy="2779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6231240" y="5651280"/>
                <a:ext cx="272160" cy="277920"/>
                <a:chOff x="6231240" y="5651280"/>
                <a:chExt cx="272160" cy="2779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23556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2312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964480" y="5651280"/>
                <a:ext cx="272160" cy="277920"/>
                <a:chOff x="5964480" y="5651280"/>
                <a:chExt cx="272160" cy="2779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968800" y="565128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9644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707080" y="5651280"/>
                <a:ext cx="272160" cy="277920"/>
                <a:chOff x="5707080" y="5651280"/>
                <a:chExt cx="272160" cy="2779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71140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70708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430960" y="5651280"/>
                <a:ext cx="272160" cy="277920"/>
                <a:chOff x="5430960" y="5651280"/>
                <a:chExt cx="272160" cy="2779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43528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096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97640" y="5651280"/>
                <a:ext cx="272160" cy="277920"/>
                <a:chOff x="6497640" y="5651280"/>
                <a:chExt cx="272160" cy="2779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501960" y="565128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97640" y="56527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8" name=""/>
          <p:cNvGrpSpPr/>
          <p:nvPr/>
        </p:nvGrpSpPr>
        <p:grpSpPr>
          <a:xfrm>
            <a:off x="5421600" y="4834080"/>
            <a:ext cx="280800" cy="283680"/>
            <a:chOff x="5421600" y="4834080"/>
            <a:chExt cx="280800" cy="283680"/>
          </a:xfrm>
        </p:grpSpPr>
        <p:sp>
          <p:nvSpPr>
            <p:cNvPr id="389" name=""/>
            <p:cNvSpPr/>
            <p:nvPr/>
          </p:nvSpPr>
          <p:spPr>
            <a:xfrm>
              <a:off x="5435640" y="48513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21600" y="4834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421600" y="5367240"/>
            <a:ext cx="280800" cy="284400"/>
            <a:chOff x="5421600" y="5367240"/>
            <a:chExt cx="280800" cy="284400"/>
          </a:xfrm>
        </p:grpSpPr>
        <p:sp>
          <p:nvSpPr>
            <p:cNvPr id="392" name=""/>
            <p:cNvSpPr/>
            <p:nvPr/>
          </p:nvSpPr>
          <p:spPr>
            <a:xfrm>
              <a:off x="5435640" y="5384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21600" y="53672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16840" y="4576680"/>
            <a:ext cx="280800" cy="284400"/>
            <a:chOff x="6216840" y="4576680"/>
            <a:chExt cx="280800" cy="284400"/>
          </a:xfrm>
        </p:grpSpPr>
        <p:sp>
          <p:nvSpPr>
            <p:cNvPr id="395" name=""/>
            <p:cNvSpPr/>
            <p:nvPr/>
          </p:nvSpPr>
          <p:spPr>
            <a:xfrm>
              <a:off x="6230880" y="459432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16840" y="4576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426280" y="5634000"/>
            <a:ext cx="280800" cy="283680"/>
            <a:chOff x="5426280" y="5634000"/>
            <a:chExt cx="280800" cy="283680"/>
          </a:xfrm>
        </p:grpSpPr>
        <p:sp>
          <p:nvSpPr>
            <p:cNvPr id="398" name=""/>
            <p:cNvSpPr/>
            <p:nvPr/>
          </p:nvSpPr>
          <p:spPr>
            <a:xfrm>
              <a:off x="544032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2628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421600" y="5105520"/>
            <a:ext cx="280800" cy="283680"/>
            <a:chOff x="5421600" y="5105520"/>
            <a:chExt cx="280800" cy="283680"/>
          </a:xfrm>
        </p:grpSpPr>
        <p:sp>
          <p:nvSpPr>
            <p:cNvPr id="401" name=""/>
            <p:cNvSpPr/>
            <p:nvPr/>
          </p:nvSpPr>
          <p:spPr>
            <a:xfrm>
              <a:off x="5435640" y="51228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1600" y="5105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216840" y="5634000"/>
            <a:ext cx="280800" cy="283680"/>
            <a:chOff x="6216840" y="5634000"/>
            <a:chExt cx="280800" cy="283680"/>
          </a:xfrm>
        </p:grpSpPr>
        <p:sp>
          <p:nvSpPr>
            <p:cNvPr id="404" name=""/>
            <p:cNvSpPr/>
            <p:nvPr/>
          </p:nvSpPr>
          <p:spPr>
            <a:xfrm>
              <a:off x="6230880" y="56512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6840" y="5634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216840" y="4848120"/>
            <a:ext cx="280800" cy="284400"/>
            <a:chOff x="6216840" y="4848120"/>
            <a:chExt cx="280800" cy="284400"/>
          </a:xfrm>
        </p:grpSpPr>
        <p:sp>
          <p:nvSpPr>
            <p:cNvPr id="407" name=""/>
            <p:cNvSpPr/>
            <p:nvPr/>
          </p:nvSpPr>
          <p:spPr>
            <a:xfrm>
              <a:off x="6230880" y="486576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16840" y="4848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12160" y="4586400"/>
            <a:ext cx="280800" cy="283680"/>
            <a:chOff x="6212160" y="4586400"/>
            <a:chExt cx="280800" cy="283680"/>
          </a:xfrm>
        </p:grpSpPr>
        <p:sp>
          <p:nvSpPr>
            <p:cNvPr id="410" name=""/>
            <p:cNvSpPr/>
            <p:nvPr/>
          </p:nvSpPr>
          <p:spPr>
            <a:xfrm>
              <a:off x="6226200" y="46036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12160" y="45864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97C5-8236-4E13-83B1-123128DFB3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4098 E">
                                      <p:cBhvr>
                                        <p:cTn id="107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069 L 2.77778E-007 0.0382 E">
                                      <p:cBhvr>
                                        <p:cTn id="11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1.11111E-006 0.0382 E">
                                      <p:cBhvr>
                                        <p:cTn id="131" dur="1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0069 L 0.03941 -0.04098 C 0.04844 -0.04954 0.05347 -0.06273 0.05347 -0.07616 C 0.05347 -0.09167 0.04844 -0.10417 0.03941 -0.11273 L 2.77778E-007 -0.15417 E">
                                      <p:cBhvr>
                                        <p:cTn id="139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keyword array formed from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pair “OP” forms two corners of an imaginary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replaced by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on the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rs “T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430960" y="4038480"/>
            <a:ext cx="1338840" cy="1335600"/>
            <a:chOff x="5430960" y="4038480"/>
            <a:chExt cx="1338840" cy="1335600"/>
          </a:xfrm>
        </p:grpSpPr>
        <p:grpSp>
          <p:nvGrpSpPr>
            <p:cNvPr id="415" name=""/>
            <p:cNvGrpSpPr/>
            <p:nvPr/>
          </p:nvGrpSpPr>
          <p:grpSpPr>
            <a:xfrm>
              <a:off x="5430960" y="4038480"/>
              <a:ext cx="1338840" cy="278280"/>
              <a:chOff x="5430960" y="4038480"/>
              <a:chExt cx="1338840" cy="2782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6231240" y="4038480"/>
                <a:ext cx="272160" cy="278280"/>
                <a:chOff x="6231240" y="4038480"/>
                <a:chExt cx="272160" cy="2782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623556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2312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964480" y="4038480"/>
                <a:ext cx="272160" cy="278280"/>
                <a:chOff x="5964480" y="4038480"/>
                <a:chExt cx="272160" cy="278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968800" y="403848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9644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5707080" y="4038480"/>
                <a:ext cx="272160" cy="278280"/>
                <a:chOff x="5707080" y="4038480"/>
                <a:chExt cx="272160" cy="2782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571140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0708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430960" y="4038480"/>
                <a:ext cx="272160" cy="278280"/>
                <a:chOff x="5430960" y="4038480"/>
                <a:chExt cx="272160" cy="2782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43528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3096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497640" y="4038480"/>
                <a:ext cx="272160" cy="278280"/>
                <a:chOff x="6497640" y="4038480"/>
                <a:chExt cx="272160" cy="2782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501960" y="403848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497640" y="40402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5430960" y="4305240"/>
              <a:ext cx="1338840" cy="277920"/>
              <a:chOff x="5430960" y="4305240"/>
              <a:chExt cx="1338840" cy="27792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231240" y="4305240"/>
                <a:ext cx="272160" cy="277920"/>
                <a:chOff x="6231240" y="4305240"/>
                <a:chExt cx="272160" cy="277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23556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312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964480" y="4305240"/>
                <a:ext cx="272160" cy="277920"/>
                <a:chOff x="5964480" y="4305240"/>
                <a:chExt cx="272160" cy="2779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968800" y="430524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644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07080" y="4305240"/>
                <a:ext cx="272160" cy="277920"/>
                <a:chOff x="5707080" y="4305240"/>
                <a:chExt cx="272160" cy="277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40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0708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430960" y="4305240"/>
                <a:ext cx="272160" cy="277920"/>
                <a:chOff x="5430960" y="4305240"/>
                <a:chExt cx="272160" cy="2779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43528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43096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497640" y="4305240"/>
                <a:ext cx="272160" cy="277920"/>
                <a:chOff x="6497640" y="4305240"/>
                <a:chExt cx="272160" cy="2779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01960" y="430524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97640" y="4306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5430960" y="4572000"/>
              <a:ext cx="1338840" cy="277920"/>
              <a:chOff x="5430960" y="4572000"/>
              <a:chExt cx="1338840" cy="2779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31240" y="4572000"/>
                <a:ext cx="272160" cy="277920"/>
                <a:chOff x="6231240" y="4572000"/>
                <a:chExt cx="272160" cy="2779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3556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312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964480" y="4572000"/>
                <a:ext cx="272160" cy="277920"/>
                <a:chOff x="5964480" y="4572000"/>
                <a:chExt cx="272160" cy="2779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968800" y="45720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644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5707080" y="4572000"/>
                <a:ext cx="272160" cy="277920"/>
                <a:chOff x="5707080" y="4572000"/>
                <a:chExt cx="272160" cy="2779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71140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70708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5430960" y="4572000"/>
                <a:ext cx="272160" cy="277920"/>
                <a:chOff x="5430960" y="4572000"/>
                <a:chExt cx="272160" cy="2779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43528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3096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497640" y="4572000"/>
                <a:ext cx="272160" cy="277920"/>
                <a:chOff x="6497640" y="4572000"/>
                <a:chExt cx="272160" cy="277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501960" y="457200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97640" y="4573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430960" y="4838760"/>
              <a:ext cx="1338840" cy="277920"/>
              <a:chOff x="5430960" y="4838760"/>
              <a:chExt cx="1338840" cy="27792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6231240" y="4838760"/>
                <a:ext cx="272160" cy="277920"/>
                <a:chOff x="6231240" y="4838760"/>
                <a:chExt cx="272160" cy="2779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23556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2312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964480" y="4838760"/>
                <a:ext cx="272160" cy="277920"/>
                <a:chOff x="5964480" y="4838760"/>
                <a:chExt cx="272160" cy="2779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968800" y="483876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644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07080" y="4838760"/>
                <a:ext cx="272160" cy="277920"/>
                <a:chOff x="5707080" y="4838760"/>
                <a:chExt cx="272160" cy="277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71140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0708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0960" y="4838760"/>
                <a:ext cx="272160" cy="277920"/>
                <a:chOff x="5430960" y="4838760"/>
                <a:chExt cx="272160" cy="277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43528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096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497640" y="4838760"/>
                <a:ext cx="272160" cy="277920"/>
                <a:chOff x="6497640" y="4838760"/>
                <a:chExt cx="272160" cy="2779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501960" y="4838760"/>
                  <a:ext cx="26640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97640" y="48402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5430960" y="5095800"/>
              <a:ext cx="1338840" cy="278280"/>
              <a:chOff x="5430960" y="5095800"/>
              <a:chExt cx="1338840" cy="27828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231240" y="5095800"/>
                <a:ext cx="272160" cy="278280"/>
                <a:chOff x="6231240" y="5095800"/>
                <a:chExt cx="272160" cy="278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3556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312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5964480" y="5095800"/>
                <a:ext cx="272160" cy="278280"/>
                <a:chOff x="5964480" y="5095800"/>
                <a:chExt cx="272160" cy="2782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968800" y="5095800"/>
                  <a:ext cx="26676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644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5707080" y="5095800"/>
                <a:ext cx="272160" cy="278280"/>
                <a:chOff x="5707080" y="5095800"/>
                <a:chExt cx="272160" cy="2782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1140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0708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430960" y="5095800"/>
                <a:ext cx="272160" cy="278280"/>
                <a:chOff x="5430960" y="5095800"/>
                <a:chExt cx="272160" cy="278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43528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3096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497640" y="5095800"/>
                <a:ext cx="272160" cy="278280"/>
                <a:chOff x="6497640" y="5095800"/>
                <a:chExt cx="272160" cy="278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501960" y="5095800"/>
                  <a:ext cx="266400" cy="26676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497640" y="50976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5" name=""/>
          <p:cNvGrpSpPr/>
          <p:nvPr/>
        </p:nvGrpSpPr>
        <p:grpSpPr>
          <a:xfrm>
            <a:off x="6221520" y="4816440"/>
            <a:ext cx="280800" cy="283680"/>
            <a:chOff x="6221520" y="4816440"/>
            <a:chExt cx="280800" cy="283680"/>
          </a:xfrm>
        </p:grpSpPr>
        <p:sp>
          <p:nvSpPr>
            <p:cNvPr id="496" name=""/>
            <p:cNvSpPr/>
            <p:nvPr/>
          </p:nvSpPr>
          <p:spPr>
            <a:xfrm>
              <a:off x="623556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152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693040" y="4021200"/>
            <a:ext cx="280800" cy="283680"/>
            <a:chOff x="5693040" y="4021200"/>
            <a:chExt cx="280800" cy="283680"/>
          </a:xfrm>
        </p:grpSpPr>
        <p:sp>
          <p:nvSpPr>
            <p:cNvPr id="499" name=""/>
            <p:cNvSpPr/>
            <p:nvPr/>
          </p:nvSpPr>
          <p:spPr>
            <a:xfrm>
              <a:off x="5707080" y="403848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9304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829480" y="4162320"/>
            <a:ext cx="547560" cy="828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226560" y="4021200"/>
            <a:ext cx="280080" cy="283680"/>
            <a:chOff x="6226560" y="4021200"/>
            <a:chExt cx="280080" cy="283680"/>
          </a:xfrm>
        </p:grpSpPr>
        <p:sp>
          <p:nvSpPr>
            <p:cNvPr id="503" name=""/>
            <p:cNvSpPr/>
            <p:nvPr/>
          </p:nvSpPr>
          <p:spPr>
            <a:xfrm>
              <a:off x="6240240" y="403848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6560" y="40212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693040" y="4816440"/>
            <a:ext cx="280800" cy="283680"/>
            <a:chOff x="5693040" y="4816440"/>
            <a:chExt cx="280800" cy="283680"/>
          </a:xfrm>
        </p:grpSpPr>
        <p:sp>
          <p:nvSpPr>
            <p:cNvPr id="506" name=""/>
            <p:cNvSpPr/>
            <p:nvPr/>
          </p:nvSpPr>
          <p:spPr>
            <a:xfrm>
              <a:off x="5707080" y="483372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93040" y="48164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69FE-2B9B-4F37-BC5B-77E0D6ECC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05729 -4.44444E-006 E">
                                      <p:cBhvr>
                                        <p:cTn id="17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5573 3.33333E-006 E">
                                      <p:cBhvr>
                                        <p:cTn id="172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will implement playfa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00320" y="3009960"/>
            <a:ext cx="4219560" cy="3633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13440" y="3022560"/>
            <a:ext cx="118260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84520" y="2679840"/>
            <a:ext cx="1182600" cy="452160"/>
          </a:xfrm>
          <a:prstGeom prst="wedgeRoundRectCallout">
            <a:avLst>
              <a:gd name="adj1" fmla="val -43689"/>
              <a:gd name="adj2" fmla="val 903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7AD8-A63A-4950-83E7-DC93804E0C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6T01:48:04Z</dcterms:modified>
  <cp:revision>69</cp:revision>
  <dc:subject/>
  <dc:title>CAP Cryptographic Analysis Program</dc:title>
</cp:coreProperties>
</file>