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1F82-A59E-4332-BC24-A344196F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24727-4AB9-497B-ABEE-7289D8B1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F00E7-9213-4198-B5ED-E717BB76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7CC11-E213-48B8-A66C-FB436E5C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4FB8-37D2-41B7-A900-EDC859C8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0F4C-806B-4B75-8762-2422377B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88A2-C2BD-4A56-979D-C87B8B7F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F6E8-C9A7-4C8C-A025-C26AB5C0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1438-9F08-4EBB-9076-DA421FDB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FF41-A41F-4720-AE80-5DCBFE6B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CF9F-C7FF-4DDD-8406-C6453F84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3D24F-93DA-415F-8072-4EB8A4ED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0EBF-7027-469C-8511-B69E6466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6B3B-4621-49A5-9B73-C1F81F8A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C543-8E20-461E-8ABB-7963993A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CD63-D11D-443C-BA69-0A82BB74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983B-DE5E-4C6D-97B1-F0D05B22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E30E-947B-4FD7-A8D5-B42BC708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965FE-9E9C-443B-9C01-9D72943F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E580-990C-44DF-81D3-486CA188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301B-523F-4F7C-987B-B48F0162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AAA3F-8AAB-4779-8E55-DC660F85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CEF8-7DAE-4E2F-904B-5F05CAC2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835C-A678-4562-86E6-9439F67C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C478-E2EE-400A-BE8E-15CCAFB4FB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52F8-57F3-4726-B323-4B60620C69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key-Ciphertext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key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a small key length is a weakness of a Vigenere cipher one fix that has been used is called an autokey cip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key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keyword to encipher the first segment of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iphertext (or the plaintext segment which was just enciphered) as the key for the next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E8A3-99A7-403C-99FC-0EE4B04B5F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72520" y="321624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autokeycipherprovidesalong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756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7756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1072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urier New"/>
              </a:rPr>
              <a:t>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709640" y="3292560"/>
            <a:ext cx="152640" cy="3808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0720" y="3521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44240" y="298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Courier New"/>
              </a:rPr>
              <a:t>w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166840" y="3368160"/>
            <a:ext cx="228600" cy="304920"/>
          </a:xfrm>
          <a:prstGeom prst="line">
            <a:avLst/>
          </a:prstGeom>
          <a:ln w="936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96960" y="549576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 will implement this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A2BF-9EEE-4706-A177-1F7BA77356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2-13T04:10:17Z</dcterms:modified>
  <cp:revision>59</cp:revision>
  <dc:subject/>
  <dc:title>CAP Cryptographic Analysis Program</dc:title>
</cp:coreProperties>
</file>