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FA76-8316-416D-8FB6-8BD26BB2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A6DA-D31A-4D1F-8162-62DD468B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D914-F007-499A-AA98-49295751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0B6C-8B04-4232-AB3D-EEC25872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D5B1-D76E-4051-8BB7-90C2AB06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A2EA-2CB6-418A-A95F-579D0772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047F-B31D-4502-BFF2-0961739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1C0B-114B-4DBB-8EFB-179B2B99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39FF-ABC4-498A-B327-AA6E8CA8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A022-D8E4-43C8-B8E4-3B9381FE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497D-CD85-4336-899E-1375132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8479-C60E-4884-B4E1-85EC48B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EA06-6FB7-4148-8749-DE0F4070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FEC-5B7A-4784-9E0C-297AC675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A100-EFBF-435D-94F4-E35EBA11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41B1-A6F0-4D11-85C8-91C2A3A6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84BB-B1EE-4663-B41B-5C8BF809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5B49-AEAF-4D06-974A-FEC8DCBC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C0CF-A8E0-4304-B2B2-94442DD0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3A14-0689-4034-AE2D-A9A729D9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27B4-FECE-49E4-BB50-279C8216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E0FD-7175-49FE-B828-4C70844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90AF-DC63-4155-B38D-F53885FD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E715-5BAE-4A8C-B578-B6762DA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08C7-F078-415C-8045-82E8A2CBF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5985-C6B6-4AAE-B6ED-EAE6A608D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gram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004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ing a Column Trans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a good estimate for the size of a column transposition you need to discover the correct arrangement of colum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ool that may help in this process in the Anagram tool provided by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lows you to try to arrange the columns to produc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ce to begin is to look for rows that have letters that commonly belo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3697-1954-420C-B42C-4B29B6E4DB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215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in all languages there are certain letters usually of medium or low frequency which combine with other letters to form diagrams of 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(medium frequency) combines with T to form TH (highest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combines with C (medium frequency) to form 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low frequency) combines with E to form VE (medium frequency in military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ossible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an H, attempts should be made to combine it with a T or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 should be combined first with a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 should be combined first with 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852F-E205-4CD5-931C-290857629D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ot Le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re is usually in every language at least one letter which can be followed by only certain other letters form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ligatory sequ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ariable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is always followed by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can only be followed by a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can be preceded only by a vowel and except at the end of a word can only be succeeded by a vowel or C, H, P, 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s such as these with limited affinity are called pilo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27EA-46C9-4F4D-9236-C1EEAE6B40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iban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8014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possible letter pairs the Centiban table could be help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 government studied a set of 5,000 digrams and produced a table of what are called centiban we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contains the logarithm of twice the frequency of each di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7520" y="3305160"/>
            <a:ext cx="67644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 B   C   D   E   F   G   H   I   J   K   L   M   N   O   P   Q   R   S   T   U   V   W   X   Y   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A  33  45  61  73  13  38  45  25  64  13  25  76  61  89  25  58  00  82  80  83  59  48  33  00  58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B  38  00  00  00  66  00  00  00  25  13  00  45  13  00  38  00  00  25  13  13  25  00  00  00  48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C  67  00  33  13  76  13  00  61  48  00  38  42  13  13  80  00  00  38  13  61  38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D  76  38  38  51  77  51  25  25  73  13  00  33  42  38  63  42  25  58  59  62  42  3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E  78  38  76  88  81  66  38  48  73  13  00  74  61  99  58  67  58  94  86  79  33  67  48  48  38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F  42  00  25  13  55  56  13  00  80  00  00  25  13  00  80  13  00  53  33  56  33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G  48  00  25  13  61  25  13  67  42  13  00  25  13  33  45  25  00  42  33  38  25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H  67  13  33  25  67  42  00  00  77  00  00  13  25  33  67  13  13  64  38  74  51  00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I  51  25  69  45  59  55  67  00  00  00  25  70  53  92  80  48  00  73  78  73  00  72  00  62  00  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J  18  00  00  00  25  00  00  00  00  00  00  00  00  00  25  00  00  00  00  00  25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K  13  00  13  00  45  00  00  00  25  00  00  13  00  13  00  00  00  00  13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L  74  33  33  53  79  33  13  13  67  00  00  73  25  13  59  33  00  25  45  51  25  25  25  00  5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M  78  45  33  13  72  13  00  13  53  00  00  00  59  00  55  51  00  25  38  25  25  00  00  00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N  72  25  67  85  87  53  73  38  75  13  25  42  42  51  66  33  13  38  71  93  48  33  33  00  42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O  48  38  51  58  33  72  25  33  42  13  25  67  72  92  45  72  00  89  61  67  79  48  51  13  25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P  61  13  13  13  70  25  00  33  45  00  00  59  38  13  64  56  00  66  45  51  33  13  13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Q  00  00  00  00  00  00  00  00  00  00  00  00  13  00  00  00  00  13  00  00  62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R  80  25  53  64  96  45  48  33  75  13  13  42  53  48  74  59  00  56  75  81  42  42  38  00  5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S  71  33  59  42  84  58  25  72  77  00  13  25  33  38  62  55  00  42  67  88  56  13  38  00  13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T  74  33  45  45  91  48  13  92  82  00  00  42  45  48  84  25  13  64  67  67  42  00  78  00  80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U  42  33  33  33  56  13  51  00  42  00  00  45  42  68  13  25  00  75  58  58  00  13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V  45  00  00  00  87  00  00  00  58  00  00  00  00  00  13  00  00  00  00  13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W  58  00  00  00  69  00  00  38  59  00  00  13  00  25  67  00  00  13  13  00  00  00  00  00  13  00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X  25  00  25  13  13  13  00  13  25  00  00  00  00  13  13  25  00  13  13  48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Y  45  25  38  38  53  56  13  13  33  00  00  25  25  45  55  33  00  38  56  62  13  00  13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99cc"/>
                </a:solidFill>
                <a:latin typeface="Courier New"/>
              </a:rPr>
              <a:t>Z  13  00  00  00  25  00  00  00  13  00  00  00  00  00  00  00  00  00  00  00  00  00  00  00  00 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6360" y="296532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econd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57040" y="3254400"/>
            <a:ext cx="321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1800" y="2443320"/>
            <a:ext cx="168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higher the score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e more likely the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wo lett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a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C1CD-25A6-4F57-A16A-F0174E725E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2T08:15:24Z</dcterms:modified>
  <cp:revision>47</cp:revision>
  <dc:subject/>
  <dc:title>CAP Cryptographic Analysis Program</dc:title>
</cp:coreProperties>
</file>