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6E3A-3942-4E55-B4C8-D09CB356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AC24-0708-4BFF-82D8-7C6E9BBB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D048-C779-41A4-86BE-9A460D50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FFA6-0985-4C9A-8C13-CF5215F2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3EDD-B563-4A60-A9DC-EC1A0E18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1CCB-F255-4D51-92D3-B180521B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AF72-5A19-47A9-AA43-AF3879EE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D160-B75C-403C-A67F-F19487A7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4EEA-CA03-4599-9D43-3A98558B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C128-FBAB-46B0-A71F-93164A98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10AF-3BF1-4233-A80C-6871F59F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9D9E-042D-4193-B6CC-F1910552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80D6-484D-48B4-AABF-3E02CB79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B183-036E-49BF-8FC1-2D10C768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7927-3BDE-49B8-9AF4-BDECE396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97DA-2BB3-4DDA-A5F1-43335023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6F8B-86A7-4D61-A9EE-4F892CB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6057-3AC9-4A42-AE83-050EE912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DB530-C88E-4E60-842D-F72C34C6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FD9D-2C71-42A2-BB76-A67718D6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2E05-6D9A-4233-9828-63EDC529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D53D-5A21-48A0-BF35-2F412BB8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4FDE-F0B4-4C27-84D6-E41037D3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EA93-9DEB-43DA-B37F-39EE37D8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189F-9561-4F70-A1CF-65A461645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05B5-8E97-4B30-B02F-97B420158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FGVX Help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FGVX Ciph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ipher involves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d by a transposi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stitution involves a 6 x 6 square where the rows and columns are labeled by the letters ADFGV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etters were selected because they are easy to distinguish as Mors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position is a simple column transposition based on a key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7119-324B-4769-85D6-B2338FAC1F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13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letters and 10 digits are entered into a 6 x 6 matrix using a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86400" y="2971800"/>
            <a:ext cx="2786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D  F  G  V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1680" y="304812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eyword:  when2go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38200" y="35053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  h  e  n  2 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657600"/>
            <a:ext cx="32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Enter the keyword and then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fill in the rest of the matrix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using the unused letters and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umbers i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4320" y="4070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  9  3  a  b 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4320" y="4603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  f  i  j  k 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2520" y="5159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  p  q  r  s 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33160" y="57150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  v  x  y  z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31360" y="62564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 4  5  6  7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53400" y="6272280"/>
            <a:ext cx="100944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9AD1-CBAE-4133-A84F-398D5F4701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7400" y="1774440"/>
            <a:ext cx="7615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tter and number in the plaintext is replaced by the letters on the column and row headings of the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86400" y="2971800"/>
            <a:ext cx="2970360" cy="3660120"/>
            <a:chOff x="986400" y="2971800"/>
            <a:chExt cx="2970360" cy="3660120"/>
          </a:xfrm>
        </p:grpSpPr>
        <p:sp>
          <p:nvSpPr>
            <p:cNvPr id="130" name=""/>
            <p:cNvSpPr/>
            <p:nvPr/>
          </p:nvSpPr>
          <p:spPr>
            <a:xfrm>
              <a:off x="986400" y="2971800"/>
              <a:ext cx="278676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  D  F  G  V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8200" y="35053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  h  e  n  2  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4320" y="4070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O  9  3  a  b  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4320" y="460368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  f  i  j  k  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2520" y="515952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  p  q  r  s  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33160" y="57150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u  v  x  y  z 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31360" y="625644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  4  5  6  7  8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383720" y="4219560"/>
            <a:ext cx="40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text:   n   e   x   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hertext:   AG  AF  VF  G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6975360" y="621972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4116-8980-4FB1-ACEB-C1BFD7FA6B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lumn transposition with a keyword, the ciphertext is written in rows and then read in columns in a specified or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4322880"/>
            <a:ext cx="16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 2 3 4 5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A G G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X G F X D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V A A D X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 G D G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 F G A V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0240" y="5178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57920" y="4707000"/>
            <a:ext cx="25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ad down columns in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 – 6 - 1- 2 – 5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27480" y="488484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FADG VXXGG AXVFA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GAGF GDXXV GXD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7083360" y="6124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B7CF8-A85D-4B72-862A-90A707600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8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for a column transposition is the number of columns and the order in which they are selected both of which are determined by a keywo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he keyword “general” defines a column transposition with 7 columns because it has 7 let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fine the order of columns assign each letter a number based on its order in the alphab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19880" y="5411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g e n e r a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05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081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296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5552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3224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41280" y="6014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08320" y="603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61800" y="6064200"/>
            <a:ext cx="1009800" cy="4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D0D1-8F43-4F03-A17A-C5BC644A5A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DFGVX cipher from the cipher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7360" y="2962440"/>
            <a:ext cx="5691240" cy="3695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756480" y="3432240"/>
            <a:ext cx="1238040" cy="696960"/>
          </a:xfrm>
          <a:prstGeom prst="wedgeRoundRectCallout">
            <a:avLst>
              <a:gd name="adj1" fmla="val -42819"/>
              <a:gd name="adj2" fmla="val 1060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keyword sets up the 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2760" y="4452840"/>
            <a:ext cx="1384200" cy="851040"/>
          </a:xfrm>
          <a:prstGeom prst="wedgeRoundRectCallout">
            <a:avLst>
              <a:gd name="adj1" fmla="val -43578"/>
              <a:gd name="adj2" fmla="val 95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keyword sets up colum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193680" y="620568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CB72-C0AF-4DF5-8BA7-3EFA146820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2-06-19T01:54:56Z</dcterms:modified>
  <cp:revision>40</cp:revision>
  <dc:subject/>
  <dc:title>CAP Cryptographic Analysis Program</dc:title>
</cp:coreProperties>
</file>