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3235-5D90-41F2-80FC-97BFD650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0BD0-E692-4B3B-8090-BD51F7E5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7FCB-0567-4DAC-8EA8-87DBE56A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B952-BFC7-4497-85F0-8246A43A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2F9-A0F6-4764-B7B7-D9D1689B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2F6D-65A8-4498-A131-D911AB22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81FC-2384-41AA-9D42-72F58B9E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8927-D22C-426A-A687-4F17A92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4D7-C338-43E9-9275-DDB1DD1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9061-3619-457F-9D38-63A6A842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E0D3-9D07-410C-BDF8-6086C196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8F0E-B9EF-484D-8641-49895C1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C311-E3D0-4579-AF23-6044F9AC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7F7-5D0B-47CC-BA79-F705F5F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BFB5-F158-481E-A7EF-74F657C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B53B-AB6D-4E4C-8BDC-4CA2AC7F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4D24-49C9-414F-8A6F-BCC0192F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3666-0AAD-4A67-86D3-E684DE3B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FA55-2051-4618-BB90-CEB7A2B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001F-4760-4B09-A95F-C9614FE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63CD-8964-45B1-94AF-5BAAB13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F749-AC07-4176-907B-2F1D3CF4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7F50-CF4C-4DE6-BC1C-5A53EFB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A1E3-CAF9-43E4-9948-2BC9099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92F1-E12E-422F-8FDD-ECBC70622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85F-D616-4FD2-B325-80CAC7757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Plain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laintext segment as the key for the next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CA8F-145A-4A1C-8AA9-5D4EF0CDC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74320" y="3468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urier New"/>
              </a:rPr>
              <a:t>anautoke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900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7900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2520" y="32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7900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12520" y="3697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u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4760" y="323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2656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4760" y="369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e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7360" y="3244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9440" y="3468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86480" y="3433680"/>
            <a:ext cx="8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3159-7FDF-464E-BFB9-BC4B9D322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4T02:51:55Z</dcterms:modified>
  <cp:revision>60</cp:revision>
  <dc:subject/>
  <dc:title>CAP Cryptographic Analysis Program</dc:title>
</cp:coreProperties>
</file>