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03A6-CBC0-4FA4-8EB3-002D3A8B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23C6-71FC-49EC-BBFB-3A5307F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3F34-F332-44F7-9247-B460EF9E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0A7B-B567-4048-8280-4079134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3D3-64A6-4BA3-BCC8-A01E9EBE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7D7-3562-41F3-B3EA-14C6442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8BD5-334C-43CD-BF85-8425E76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9A46-3766-4A9E-B85B-8061E427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E07-98E7-482D-B8D7-671ADCD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C9EA-2559-40B6-90A2-ADEF4F9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514-2B62-4039-B978-A7196BA2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F712-818E-4E78-B83F-17C03480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B933-0000-4372-98AE-CA01E49E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9A4A-B81D-4778-B31F-CB1BB30C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75B2-14A7-447F-A979-E9215ADD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861F-F16C-4F03-83AD-2A40E516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50CD-DC7C-4E3F-BFFD-A23E35EB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4E24-A249-42CC-9C84-183BD47A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151E-4707-4DF1-BEC8-FB67A2BA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46F9-E97D-4A62-A733-C4050E5A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E035-B9DE-4DB0-ABFC-E48E4AA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956D-04B0-4CF7-9160-8886DE3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E209-2112-437E-ACD8-06A5B9C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02E23-0084-433D-95EB-4007D5A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7FC0-8E8A-4783-B69E-7F46AACCA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4822-DD9C-4668-987C-B90EF8E851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Homophonic Cipher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a Homopho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7920" y="2123640"/>
            <a:ext cx="7932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mophonic cipher as presented has several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uld be subject to a dictionary attack since the key is just a four lett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number range (1-25, 26-50, 51-75, 76-100) could be subjected to a frequency analysis (CAP will allow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known word or phrase could be compared to the ciphertext (CAP will run th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6E06-C4B6-4EA2-B7AD-8945598FEC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4640" y="1733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the ciphertext matrix was created by multiplying the plaintext matrix by the key matrix 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key matrix can be recovered if we know the inverse of the plaintext 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3796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 = M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0920" y="5484960"/>
            <a:ext cx="25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 = M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8680" y="5513400"/>
            <a:ext cx="436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Process:  Find the inverse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the known plaintext, multip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it times a segment of ciphertex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agik"/>
              </a:rPr>
              <a:t>and check the resulting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F43F-571E-4A3B-92CE-D3773E957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480" y="1722600"/>
            <a:ext cx="7380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 Hill cipher by hand is very time consuming however CAP will automate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35320" y="3297240"/>
            <a:ext cx="5648040" cy="3560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7288200" y="3056040"/>
            <a:ext cx="1533600" cy="723960"/>
            <a:chOff x="7288200" y="3056040"/>
            <a:chExt cx="1533600" cy="723960"/>
          </a:xfrm>
        </p:grpSpPr>
        <p:sp>
          <p:nvSpPr>
            <p:cNvPr id="124" name=""/>
            <p:cNvSpPr/>
            <p:nvPr/>
          </p:nvSpPr>
          <p:spPr>
            <a:xfrm>
              <a:off x="7288200" y="30560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8320" y="3203640"/>
              <a:ext cx="1471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your best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uess for the 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3027240"/>
            <a:ext cx="1539360" cy="723960"/>
            <a:chOff x="4630680" y="3027240"/>
            <a:chExt cx="1539360" cy="723960"/>
          </a:xfrm>
        </p:grpSpPr>
        <p:sp>
          <p:nvSpPr>
            <p:cNvPr id="127" name=""/>
            <p:cNvSpPr/>
            <p:nvPr/>
          </p:nvSpPr>
          <p:spPr>
            <a:xfrm>
              <a:off x="4630680" y="3027240"/>
              <a:ext cx="1533600" cy="72396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90800" y="3174840"/>
              <a:ext cx="147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a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laintex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040440" y="4151160"/>
            <a:ext cx="1533600" cy="723600"/>
            <a:chOff x="6040440" y="4151160"/>
            <a:chExt cx="1533600" cy="723600"/>
          </a:xfrm>
        </p:grpSpPr>
        <p:sp>
          <p:nvSpPr>
            <p:cNvPr id="130" name=""/>
            <p:cNvSpPr/>
            <p:nvPr/>
          </p:nvSpPr>
          <p:spPr>
            <a:xfrm>
              <a:off x="6040440" y="4151160"/>
              <a:ext cx="1533600" cy="723600"/>
            </a:xfrm>
            <a:prstGeom prst="wedgeRoundRectCallout">
              <a:avLst>
                <a:gd name="adj1" fmla="val -44615"/>
                <a:gd name="adj2" fmla="val 72148"/>
                <a:gd name="adj3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30080" y="4184280"/>
              <a:ext cx="1352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y the possibl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keys until on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B4A0-3582-4F15-85FB-68B793B990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5-26T23:19:17Z</dcterms:modified>
  <cp:revision>69</cp:revision>
  <dc:subject/>
  <dc:title>CAP Cryptographic Analysis Program</dc:title>
</cp:coreProperties>
</file>