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9524-1494-485C-8D60-16E5B85C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F1B5-0E40-49B1-B835-29DFA36D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5B3D-6EC4-4CD7-9E34-E19A6237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DBDA-E40B-4FA6-B4B5-6B4079B4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FD4A-39BB-4DF9-8B68-6A3621BE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8F9F-B225-4B92-992A-06157016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4A73-F9EF-4A3F-81B4-BDFC6C9A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932D-480D-4135-9C66-A9620A8E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937E-9A5E-4A2C-B931-AA3D1E0F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72E9-207F-43B5-B2A7-7B1B80A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5311-ED2C-486F-BFD9-D37ABEE1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062A-FD97-4FC8-AE6F-262F2F5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8F06-E6EF-410D-93DB-393B756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8134-90E2-4584-8F53-D1F37979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A530-2182-4A9A-9186-8CB39395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0B91-4D56-4DBE-AB7A-32924326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8B40-CF67-4B39-BCE6-41D95F0D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BCE9-3094-491E-ACC5-987FF18C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ACD7-72BA-4B4A-A22E-2C403B72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713B-89BD-4881-811B-B808C367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FE79-2304-4508-8BE0-78099EF6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37DA-DA18-413F-BE73-7C2A70E5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9452-893A-4FD1-8CB3-F9FA5BDA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42EF-79EA-4002-8B5D-5375A174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51A4-06EE-4A37-8504-45E504D3A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089E-23B4-455E-8680-DC925DF774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the Vigener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Vigen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e than 300 years cryptanalysts worked on the problem of breaking a polyalphabetic cipher (like the V-ciph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63, a Polish Infantry officer, Friedrich W. Kasiski, published a short book (95 pages) which changed the nature of cryp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found a simple solution to the polyalphabetic cip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in 1881 without realizing that he had started a revolution in cryptograph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8301-A584-44DA-A645-1D8723509F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t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iski’s breakthrough was the observation th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1080" y="5610240"/>
            <a:ext cx="70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o, the size of the keyword can be determined by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nature of repeated ciphertext character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0040" y="3324240"/>
            <a:ext cx="6573600" cy="1644480"/>
            <a:chOff x="1400040" y="3324240"/>
            <a:chExt cx="6573600" cy="1644480"/>
          </a:xfrm>
        </p:grpSpPr>
        <p:sp>
          <p:nvSpPr>
            <p:cNvPr id="119" name=""/>
            <p:cNvSpPr/>
            <p:nvPr/>
          </p:nvSpPr>
          <p:spPr>
            <a:xfrm>
              <a:off x="1400040" y="3324240"/>
              <a:ext cx="6573600" cy="164448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0360" y="3512880"/>
              <a:ext cx="5896440" cy="1186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conjuction of a repeated por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key with a repetition in the 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duces a repetition in the ciphertex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C668-D1D2-4F5C-967D-E1D60D08B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679040"/>
            <a:ext cx="822960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ven the keyword RUN and some plaintex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78040" y="3143160"/>
            <a:ext cx="7588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urier New"/>
              </a:rPr>
              <a:t>R U N R U N R U N R U N R U N R U N R U N R U N R U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 o b e o r n o t t o b e t h a t i s t h e q u e 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Courier New"/>
              </a:rPr>
              <a:t>K I O V I E E I G K I O V N U R N V J N U V K H V M 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71640" y="3998880"/>
            <a:ext cx="3399840" cy="0"/>
            <a:chOff x="971640" y="3998880"/>
            <a:chExt cx="3399840" cy="0"/>
          </a:xfrm>
        </p:grpSpPr>
        <p:sp>
          <p:nvSpPr>
            <p:cNvPr id="127" name=""/>
            <p:cNvSpPr/>
            <p:nvPr/>
          </p:nvSpPr>
          <p:spPr>
            <a:xfrm>
              <a:off x="97164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8360" y="3998880"/>
              <a:ext cx="933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8880" y="463716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Find repeated ciphe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28880" y="4016520"/>
            <a:ext cx="2485800" cy="305640"/>
            <a:chOff x="1028880" y="4016520"/>
            <a:chExt cx="2485800" cy="305640"/>
          </a:xfrm>
        </p:grpSpPr>
        <p:sp>
          <p:nvSpPr>
            <p:cNvPr id="131" name=""/>
            <p:cNvSpPr/>
            <p:nvPr/>
          </p:nvSpPr>
          <p:spPr>
            <a:xfrm flipV="1">
              <a:off x="10288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14680" y="4046040"/>
              <a:ext cx="0" cy="276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4227480"/>
              <a:ext cx="2323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7480" y="401652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87440" y="497988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Count the number of characters between the repet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52920" y="3968640"/>
            <a:ext cx="1990440" cy="287280"/>
            <a:chOff x="4552920" y="3968640"/>
            <a:chExt cx="1990440" cy="287280"/>
          </a:xfrm>
        </p:grpSpPr>
        <p:sp>
          <p:nvSpPr>
            <p:cNvPr id="137" name=""/>
            <p:cNvSpPr/>
            <p:nvPr/>
          </p:nvSpPr>
          <p:spPr>
            <a:xfrm>
              <a:off x="4552920" y="398916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81560" y="3970440"/>
              <a:ext cx="361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1360" y="4037040"/>
              <a:ext cx="0" cy="21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248160" y="4007880"/>
              <a:ext cx="0" cy="219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7680" y="4179960"/>
              <a:ext cx="1542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1000" y="3968640"/>
              <a:ext cx="97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6 charac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041480" y="543564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 each time the key RUNR engages the rep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laintext </a:t>
            </a: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to be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, the repeated ciphertext KIOV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E11C-E03D-4493-B851-17C7157131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2000" y="1657440"/>
            <a:ext cx="7272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perform this test automatically – select Kasiski Method under the polyalphabetic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22200" y="2446200"/>
            <a:ext cx="1036800" cy="422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352600" y="2459160"/>
            <a:ext cx="6640560" cy="42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3ED8-1BEF-409E-9F61-E29FA4929D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767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keyword size is known it is possible to discover the 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copies of the target ciphertext in columns where each column is shifted by one position in th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26440" y="4564080"/>
            <a:ext cx="70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low frequency letters (j,k,q,x,z) should have a combined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about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6080" y="540216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column in which these letters appear more frequently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27880" y="5931000"/>
            <a:ext cx="680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umn with the correct frequency is a candidate for the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1F39-99F9-4C11-A76B-F713D36515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1360" y="1604880"/>
            <a:ext cx="71550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provides a low frequency analysis to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74760" y="2262240"/>
            <a:ext cx="1049400" cy="4278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28800" y="2262240"/>
            <a:ext cx="5985000" cy="419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70080" y="3527280"/>
            <a:ext cx="1074600" cy="398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4BAA4-AFA4-43FF-BF8F-89D267B1B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2T02:16:52Z</dcterms:modified>
  <cp:revision>58</cp:revision>
  <dc:subject/>
  <dc:title>CAP Cryptographic Analysis Program</dc:title>
</cp:coreProperties>
</file>