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9A1F-D4AE-42B4-8901-5A087356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AE3C-4E16-4697-94CB-9D62D77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707F0-FD5E-43B8-ACF3-4ADF4B69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BA91-9CF5-4DEB-80B0-52338B57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8C2-6BCE-43AC-8702-8EB0CE37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3A8-DAC8-4DB6-917F-3DDBFD4A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3109-6D2C-4763-835F-C718EFC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1622-AF3C-4B97-8805-4B82DCB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8B8-C779-4490-98C8-729E409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09E5-7AE8-4E56-9E21-B223F009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70F-93E8-4A8F-9DD2-DD41A540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7E81-304F-45BC-AC8B-40BF4D3B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1FC2-D9BD-434A-B1F5-BD8EAD18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8858-3FA5-47E7-BA8B-2FB7C93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F14-399E-4992-AFAE-C593A7CE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28AC-48BE-451F-99BB-5F0DD185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2E8B-0BF9-4532-A0E2-3A06F944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31E5-0E54-422B-95DF-987E747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51D5-2AFD-49E1-85B3-93FA55B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595C-CEF1-49C0-B50B-F9A539D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6AEA-CF18-4EE4-903C-FCD5946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EE0E-023D-42B7-B7D1-19C4B25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2EBD-5AA4-4301-826F-5FA0DD9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B592-9B9D-4C11-BDA0-A98393A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B2D2-B506-468A-9C2B-098242A48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201E-D4D3-48E9-B94D-7CE18F9F2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2952-B9E1-486D-9375-27C94D9DA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05T01:05:49Z</dcterms:modified>
  <cp:revision>46</cp:revision>
  <dc:subject/>
  <dc:title>CAP Cryptographic Analysis Program</dc:title>
</cp:coreProperties>
</file>