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0609-E4E9-44C8-849E-01E30F55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6E29-3C4F-4CC6-B2B9-1FFC272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3DC0-B2A8-4B74-A2E3-07209BED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FA3B-5E2F-4A59-A8B3-1DA56963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C4B-A81C-44A9-A2CF-9E2DEE83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7B1-B1AA-495F-9D3A-1F82C60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8A3B-4502-4AE5-8C04-5BF2F6A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7BED-FB07-4DCC-B5D1-8B4DDBD2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C95E-4E48-43B7-890E-356173D1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E39C-09C9-4F71-A742-393E73E7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BB5-20FF-44B0-9057-F18B5DF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2B34-5465-4479-B348-E0D4328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55D8-80E5-41CE-961B-762F29C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5F3D-4A89-4D9E-98C0-010A1D6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9BA-63D4-4C6C-9600-384AFDA6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559B-2F08-4B3B-9892-87FAF3F1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DB59-CDAF-4D34-84D7-5134D921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5B98-3813-41FF-96B3-CCCE794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B291-9994-4574-A25B-A07AA482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4C93-4B10-486A-8142-B892546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4F00-2BDA-4509-8AAD-D614B8E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BC32-D54B-4730-B1A2-528A779A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A6BA-B934-44C0-9F5E-8C6E4D83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888A-473A-4777-ABAF-21B73DA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B3E8-555A-4019-B54C-A91B2B847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BEB6-7C8D-46C0-8AE8-1261709EF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ine Analysis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ing the Affine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eak the Affine cipher all that is necessary is to find the substitution for two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say plaintext “e” is represented in the ciphertext by “c” and plaintext “t” is represented in the ciphertext by “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wo substitutions define to affin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9720" y="4114800"/>
            <a:ext cx="80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= a*4 + b mod 26 (since e – character 4 is replaced by c – character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 = a*19 + b mod 26 (since t – character 19 is replaced by f – characte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3840" y="510552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the two equations for a and b results in the affine key (21,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he affine equ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c = 21*p + 22 mod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6FFC-8864-4CB9-98EA-4BA4FE0F8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will solve the equations provided you find at least two correct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670572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581280" y="2971800"/>
            <a:ext cx="1295640" cy="685800"/>
          </a:xfrm>
          <a:prstGeom prst="wedgeRoundRectCallout">
            <a:avLst>
              <a:gd name="adj1" fmla="val -45953"/>
              <a:gd name="adj2" fmla="val 6990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514600"/>
            <a:ext cx="1295640" cy="380880"/>
          </a:xfrm>
          <a:prstGeom prst="wedgeRoundRectCallout">
            <a:avLst>
              <a:gd name="adj1" fmla="val -45953"/>
              <a:gd name="adj2" fmla="val 1658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on 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1905120" cy="1143000"/>
          </a:xfrm>
          <a:prstGeom prst="wedgeRoundRectCallout">
            <a:avLst>
              <a:gd name="adj1" fmla="val -47250"/>
              <a:gd name="adj2" fmla="val 8861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is appears to be plaintext then you were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wise try another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5228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C6C3-AD99-4FA3-B61D-928983A981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3T00:30:51Z</dcterms:modified>
  <cp:revision>31</cp:revision>
  <dc:subject/>
  <dc:title>CAP Cryptographic Analysis Program</dc:title>
</cp:coreProperties>
</file>