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B6B47-D1E8-49DA-AFE4-6BF04C125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B8AB3-B651-4BA7-A5C0-2F5EE10A2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233DC-6651-4157-A50C-958360C43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5F757-19FF-4EB3-A5C8-8A752722F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E5AE0-B6EB-4FD7-A110-5CC334021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99EF6-2572-4E81-8DBA-F3AF42A7F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92F82-EA2D-4266-B5EB-378613EFD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00CBE-0CDB-4758-AA32-2B4F60C9E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802A6-929E-499F-9A4E-9408CFA21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CCD75-541D-4F29-9811-3C01FD8A2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1077D-F41B-4EDF-8733-21947DB8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6F069-98E4-4D60-BA47-64BDF13E3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FC75E-7C49-4E8F-96F5-651F6D3B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4DD83-3DE1-4B7B-B7E4-45212A78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F1A11-199D-4B6A-A6E6-91D8B33FF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5300D-F50D-4D83-9C31-EEB672CA3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20581-7E3D-4AB1-B4E1-951A1EC45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FB207-2625-4854-8104-B7E435EFD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9CA0C-53BE-4FEC-8A56-7D47C916F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5D9C3-DD6D-435D-8955-D9786AF0E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691C7-99EC-40BE-9F01-3B6622FE8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5ECD2-2BFC-487D-B402-CC977C935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B6DDA-FE91-430C-BCD9-F697F126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D0734-060E-47C2-B9D1-D04C029B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A22A7-CF79-4937-941C-F1189E78A1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BD2F1-4C5A-45F6-9286-A7F61F421C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ltiliteral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 - Wheel Cip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4640" y="1851120"/>
            <a:ext cx="8736120" cy="29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urn the wheel so that the message appe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3800" y="5248440"/>
            <a:ext cx="90504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818000" y="5324400"/>
            <a:ext cx="55656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the line above, the message be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BWLC HJKWB 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430280" y="3397320"/>
            <a:ext cx="5132520" cy="1357200"/>
            <a:chOff x="1430280" y="3397320"/>
            <a:chExt cx="5132520" cy="1357200"/>
          </a:xfrm>
        </p:grpSpPr>
        <p:sp>
          <p:nvSpPr>
            <p:cNvPr id="117" name=""/>
            <p:cNvSpPr/>
            <p:nvPr/>
          </p:nvSpPr>
          <p:spPr>
            <a:xfrm rot="16200000">
              <a:off x="5567400" y="3687480"/>
              <a:ext cx="1219320" cy="771480"/>
            </a:xfrm>
            <a:prstGeom prst="can">
              <a:avLst>
                <a:gd name="adj" fmla="val 48351"/>
              </a:avLst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1430280" y="3397320"/>
              <a:ext cx="5025600" cy="1357200"/>
              <a:chOff x="1430280" y="3397320"/>
              <a:chExt cx="5025600" cy="135720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5168880" y="3686040"/>
                <a:ext cx="1218960" cy="771480"/>
              </a:xfrm>
              <a:prstGeom prst="can">
                <a:avLst>
                  <a:gd name="adj" fmla="val 48351"/>
                </a:avLst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4768920" y="3686040"/>
                <a:ext cx="1218960" cy="771480"/>
              </a:xfrm>
              <a:prstGeom prst="can">
                <a:avLst>
                  <a:gd name="adj" fmla="val 48351"/>
                </a:avLst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4368600" y="3686040"/>
                <a:ext cx="1218960" cy="771480"/>
              </a:xfrm>
              <a:prstGeom prst="can">
                <a:avLst>
                  <a:gd name="adj" fmla="val 48351"/>
                </a:avLst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6200000">
                <a:off x="3968640" y="3686040"/>
                <a:ext cx="1218960" cy="771480"/>
              </a:xfrm>
              <a:prstGeom prst="can">
                <a:avLst>
                  <a:gd name="adj" fmla="val 48351"/>
                </a:avLst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6200000">
                <a:off x="3578040" y="3686040"/>
                <a:ext cx="1218960" cy="771480"/>
              </a:xfrm>
              <a:prstGeom prst="can">
                <a:avLst>
                  <a:gd name="adj" fmla="val 48351"/>
                </a:avLst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200000">
                <a:off x="3187800" y="3686040"/>
                <a:ext cx="1218960" cy="771840"/>
              </a:xfrm>
              <a:prstGeom prst="can">
                <a:avLst>
                  <a:gd name="adj" fmla="val 48351"/>
                </a:avLst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6200000">
                <a:off x="2797200" y="3686040"/>
                <a:ext cx="1218960" cy="771480"/>
              </a:xfrm>
              <a:prstGeom prst="can">
                <a:avLst>
                  <a:gd name="adj" fmla="val 48351"/>
                </a:avLst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6200000">
                <a:off x="2397240" y="3686040"/>
                <a:ext cx="1218960" cy="771840"/>
              </a:xfrm>
              <a:prstGeom prst="can">
                <a:avLst>
                  <a:gd name="adj" fmla="val 48351"/>
                </a:avLst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6200000">
                <a:off x="1996920" y="3686040"/>
                <a:ext cx="1218960" cy="771480"/>
              </a:xfrm>
              <a:prstGeom prst="can">
                <a:avLst>
                  <a:gd name="adj" fmla="val 48351"/>
                </a:avLst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6200000">
                <a:off x="1606680" y="3686040"/>
                <a:ext cx="1218960" cy="771840"/>
              </a:xfrm>
              <a:prstGeom prst="can">
                <a:avLst>
                  <a:gd name="adj" fmla="val 48351"/>
                </a:avLst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6200000">
                <a:off x="1206360" y="3686040"/>
                <a:ext cx="1218960" cy="771480"/>
              </a:xfrm>
              <a:prstGeom prst="can">
                <a:avLst>
                  <a:gd name="adj" fmla="val 48351"/>
                </a:avLst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1744920" y="3430440"/>
                <a:ext cx="367560" cy="1324080"/>
                <a:chOff x="1744920" y="3430440"/>
                <a:chExt cx="367560" cy="132408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1764000" y="3430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821240" y="3630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U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40320" y="38494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830600" y="40590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1802160" y="4278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K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1744920" y="44780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F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2125800" y="3430440"/>
                <a:ext cx="367560" cy="1324080"/>
                <a:chOff x="2125800" y="3430440"/>
                <a:chExt cx="367560" cy="132408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2144880" y="3430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202120" y="3630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2221200" y="38494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H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2211480" y="40590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2183040" y="4278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2125800" y="44780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W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2516400" y="3430440"/>
                <a:ext cx="367560" cy="1324080"/>
                <a:chOff x="2516400" y="3430440"/>
                <a:chExt cx="367560" cy="132408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2535480" y="3430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2592720" y="3630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W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2611800" y="38494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602080" y="40590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2573640" y="4278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2516400" y="44780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2907000" y="3430440"/>
                <a:ext cx="367560" cy="1324080"/>
                <a:chOff x="2907000" y="3430440"/>
                <a:chExt cx="367560" cy="132408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2926080" y="3430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U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2983320" y="3630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L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3002400" y="38494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2992680" y="40590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Y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964240" y="4278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P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907000" y="44780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F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3306960" y="3430440"/>
                <a:ext cx="367560" cy="1324080"/>
                <a:chOff x="3306960" y="3430440"/>
                <a:chExt cx="367560" cy="132408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326040" y="3430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J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3383280" y="3630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402360" y="38494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3392640" y="40590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3364200" y="4278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3306960" y="44780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X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3726000" y="3430440"/>
                <a:ext cx="367560" cy="1324080"/>
                <a:chOff x="3726000" y="3430440"/>
                <a:chExt cx="367560" cy="13240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3745080" y="3430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3802320" y="3630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H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3821400" y="38494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3811680" y="40590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3783240" y="4278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P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3726000" y="44780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Z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4116600" y="3430440"/>
                <a:ext cx="367560" cy="1324080"/>
                <a:chOff x="4116600" y="3430440"/>
                <a:chExt cx="367560" cy="132408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4135680" y="3430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4192920" y="3630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J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4212000" y="38494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4202280" y="40590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4173840" y="4278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H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4116600" y="44780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F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4516560" y="3421080"/>
                <a:ext cx="367560" cy="1324080"/>
                <a:chOff x="4516560" y="3421080"/>
                <a:chExt cx="367560" cy="132408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4535640" y="34210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Y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4592880" y="36208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K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611960" y="38401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O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602240" y="40496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4573800" y="42688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F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4516560" y="4468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4897800" y="3421080"/>
                <a:ext cx="366840" cy="1324080"/>
                <a:chOff x="4897800" y="3421080"/>
                <a:chExt cx="366840" cy="132408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4916520" y="34210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V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973400" y="36208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W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992480" y="38401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983120" y="40496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954320" y="42688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J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897800" y="4468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F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5297760" y="3421080"/>
                <a:ext cx="367560" cy="1324080"/>
                <a:chOff x="5297760" y="3421080"/>
                <a:chExt cx="367560" cy="132408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5316840" y="34210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5374080" y="36208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5393160" y="38401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F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5383440" y="40496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5355000" y="42688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5297760" y="44686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F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5707440" y="3397320"/>
                <a:ext cx="366840" cy="1324080"/>
                <a:chOff x="5707440" y="3397320"/>
                <a:chExt cx="366840" cy="132408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5726160" y="33973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5783040" y="35971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5802120" y="381636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U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5792760" y="40258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V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5763960" y="42451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5707440" y="444492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6088320" y="3430440"/>
                <a:ext cx="367560" cy="1324080"/>
                <a:chOff x="6088320" y="3430440"/>
                <a:chExt cx="367560" cy="132408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6107400" y="34304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6164640" y="3630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U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6183720" y="384948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6174000" y="405900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145560" y="42782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L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6088320" y="4478040"/>
                  <a:ext cx="272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6699"/>
                      </a:solidFill>
                      <a:latin typeface="Courier New"/>
                    </a:rPr>
                    <a:t>F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14" name=""/>
          <p:cNvGrpSpPr/>
          <p:nvPr/>
        </p:nvGrpSpPr>
        <p:grpSpPr>
          <a:xfrm>
            <a:off x="1778040" y="3686040"/>
            <a:ext cx="6078240" cy="459720"/>
            <a:chOff x="1778040" y="3686040"/>
            <a:chExt cx="6078240" cy="459720"/>
          </a:xfrm>
        </p:grpSpPr>
        <p:sp>
          <p:nvSpPr>
            <p:cNvPr id="215" name=""/>
            <p:cNvSpPr/>
            <p:nvPr/>
          </p:nvSpPr>
          <p:spPr>
            <a:xfrm>
              <a:off x="1778040" y="3828960"/>
              <a:ext cx="4857840" cy="276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290280" y="3686040"/>
              <a:ext cx="156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6699"/>
                  </a:solidFill>
                  <a:latin typeface="Magik"/>
                </a:rPr>
                <a:t>plain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431640" y="3448080"/>
            <a:ext cx="6147000" cy="459720"/>
            <a:chOff x="431640" y="3448080"/>
            <a:chExt cx="6147000" cy="459720"/>
          </a:xfrm>
        </p:grpSpPr>
        <p:sp>
          <p:nvSpPr>
            <p:cNvPr id="218" name=""/>
            <p:cNvSpPr/>
            <p:nvPr/>
          </p:nvSpPr>
          <p:spPr>
            <a:xfrm>
              <a:off x="1720800" y="3648240"/>
              <a:ext cx="4857840" cy="190440"/>
            </a:xfrm>
            <a:prstGeom prst="rect">
              <a:avLst/>
            </a:prstGeom>
            <a:noFill/>
            <a:ln w="190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31640" y="3448080"/>
              <a:ext cx="176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6699"/>
                  </a:solidFill>
                  <a:latin typeface="Magik"/>
                </a:rPr>
                <a:t>cipher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0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3478D-5BD9-4206-B0C9-BA66E298271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zeries Cip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57320" y="1787040"/>
            <a:ext cx="345096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linders such as the Wheel cipher use a set of wheels with the alphabet in different, random orders around each wh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zeries developed one in 1891 with 20 cylin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362400" y="2379600"/>
            <a:ext cx="603288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 b c d e f g h i j k l m n o p q r s t u v x y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 c d f g h j k l m n p q r s t v x z a e i o u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 e b c d f g h i o j k l m n p u y q r s t v x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z y x v u t s r q p o n m l k j i h g f e d c b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u z x v t s r o i q p n m l k e a j h g f d c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z x v t s r q p n m l k j h g f d c b y u o i e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 l o n s e f t d p r i j u g v b c h k m q x y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 i e n h u r x l s p a v d t o y m c f g j k q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 h a r y b d e t s l f g i j k m n o p q u v x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 i e u p r o t g l a f n c b h j k m q s v x y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v i t z l s c o u r a n d b f g h j k m p q x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 o r m e z l s a i c u x b d g h j k n p q t v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 l o i r e m t d n s a u x b c f h j k p q v y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h o n e u r t p a i b c d f g j k l m q s v x y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 n s t r u e z l a j b c d f g h k m o p q v x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j a i m e l o g n f r t h u b c d k p q s v x y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 y r i e l s o n a b c d f g h j m p q t u v x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 h o m e p r s t d i u a b c f g j k n q v x y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 o n t e z a c h v l b d f g i j k p q r s u x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0   n o u s t e l a c f b d g h i j k m p q r v x y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C13E1-B51C-445D-84EC-702564EE472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1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77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" dur="770" fill="hold"/>
                                        <p:tgtEl>
                                          <p:spTgt spid="2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" dur="77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" dur="77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821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key is the order of the cylin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xample using the order 1, 5, 3 and the word “ha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6496200" y="870120"/>
            <a:ext cx="2375280" cy="6000480"/>
            <a:chOff x="6496200" y="870120"/>
            <a:chExt cx="2375280" cy="6000480"/>
          </a:xfrm>
        </p:grpSpPr>
        <p:sp>
          <p:nvSpPr>
            <p:cNvPr id="228" name=""/>
            <p:cNvSpPr/>
            <p:nvPr/>
          </p:nvSpPr>
          <p:spPr>
            <a:xfrm>
              <a:off x="6800760" y="870120"/>
              <a:ext cx="1752840" cy="59436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496200" y="1022400"/>
              <a:ext cx="2375280" cy="58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1  5 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h  a  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  j  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j  h  x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k  g  z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l  f  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m  d  e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n  c  b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o  b  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p  y  d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q  u  f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r  z  g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  x  h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t  v  i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u  t  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v  s  j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x  r  k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y  o  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z  i  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a  q  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b  p  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c  n  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d  m  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  l  q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f  k  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g  e  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182000" y="125100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3829680" y="3537000"/>
            <a:ext cx="4342680" cy="2090160"/>
            <a:chOff x="3829680" y="3537000"/>
            <a:chExt cx="4342680" cy="2090160"/>
          </a:xfrm>
        </p:grpSpPr>
        <p:sp>
          <p:nvSpPr>
            <p:cNvPr id="232" name=""/>
            <p:cNvSpPr/>
            <p:nvPr/>
          </p:nvSpPr>
          <p:spPr>
            <a:xfrm>
              <a:off x="7029360" y="3537000"/>
              <a:ext cx="1143000" cy="30456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829680" y="4984560"/>
              <a:ext cx="2125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Use “sxh”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5810040" y="3841200"/>
              <a:ext cx="1143000" cy="1295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5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D4542-A3BB-4AE2-B799-B85A5685C54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zeries under the cipher me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357200" y="3398760"/>
            <a:ext cx="6861240" cy="2063880"/>
          </a:xfrm>
          <a:prstGeom prst="rect">
            <a:avLst/>
          </a:prstGeom>
          <a:ln w="0">
            <a:noFill/>
          </a:ln>
        </p:spPr>
      </p:pic>
      <p:grpSp>
        <p:nvGrpSpPr>
          <p:cNvPr id="239" name=""/>
          <p:cNvGrpSpPr/>
          <p:nvPr/>
        </p:nvGrpSpPr>
        <p:grpSpPr>
          <a:xfrm>
            <a:off x="5367240" y="3459240"/>
            <a:ext cx="1390680" cy="952560"/>
            <a:chOff x="5367240" y="3459240"/>
            <a:chExt cx="1390680" cy="952560"/>
          </a:xfrm>
        </p:grpSpPr>
        <p:sp>
          <p:nvSpPr>
            <p:cNvPr id="240" name=""/>
            <p:cNvSpPr/>
            <p:nvPr/>
          </p:nvSpPr>
          <p:spPr>
            <a:xfrm>
              <a:off x="5367240" y="3459240"/>
              <a:ext cx="1390680" cy="952560"/>
            </a:xfrm>
            <a:prstGeom prst="wedgeRoundRectCallout">
              <a:avLst>
                <a:gd name="adj1" fmla="val -43037"/>
                <a:gd name="adj2" fmla="val 70000"/>
                <a:gd name="adj3" fmla="val 16667"/>
              </a:avLst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430600" y="3476520"/>
              <a:ext cx="1155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rrange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e wheel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rd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1795320" y="2725560"/>
            <a:ext cx="1114560" cy="733680"/>
            <a:chOff x="1795320" y="2725560"/>
            <a:chExt cx="1114560" cy="733680"/>
          </a:xfrm>
        </p:grpSpPr>
        <p:sp>
          <p:nvSpPr>
            <p:cNvPr id="243" name=""/>
            <p:cNvSpPr/>
            <p:nvPr/>
          </p:nvSpPr>
          <p:spPr>
            <a:xfrm>
              <a:off x="1795320" y="2725560"/>
              <a:ext cx="1114560" cy="733680"/>
            </a:xfrm>
            <a:prstGeom prst="wedgeRoundRectCallout">
              <a:avLst>
                <a:gd name="adj1" fmla="val -41310"/>
                <a:gd name="adj2" fmla="val 75972"/>
                <a:gd name="adj3" fmla="val 16667"/>
              </a:avLst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831680" y="2771640"/>
              <a:ext cx="981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le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t Ke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272880" y="5497560"/>
            <a:ext cx="857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 cycle it will take the line below the plaintext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cond cycle it will take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ine below the plaintext, 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237960" y="637236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1384D-DFB4-4A48-B5A0-E8C0D582AC9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10T02:37:15Z</dcterms:modified>
  <cp:revision>53</cp:revision>
  <dc:subject/>
  <dc:title>CAP Cryptographic Analysis Program</dc:title>
</cp:coreProperties>
</file>