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D7D0-00F9-4B7C-82AA-A9B0360E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20CE-C03D-4F59-9776-47E5E8E2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31ED-81C3-4E48-BE4E-20665785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F5CB-CAA6-4C93-8C42-3A84ED4D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DDBE-75C4-42BC-B4EF-4D19F9DE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B676-BAE8-429E-999A-9FE9E1D7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DDFE-C2F1-4432-B144-92AA0C41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CEBD-82A7-4A3D-BB02-4420E746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7296-74EB-48A2-830A-B5C6C897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0EB9-7FDA-4528-9907-5C40D0D8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5249-8EFC-4F56-ADEF-B5AA4F63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EADB-FB73-47DA-B1C2-33C47312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AE26-A228-4061-9DD1-92A70DD7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FBD9-B678-4E3B-A6C6-8CE4A022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0796-AFC1-4AC5-8927-076A563D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3D5E-83B3-4222-8618-E73F0AD4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98BC-FB95-4C65-8AD4-968E2360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3A40-DA3B-409B-AB34-561E0B5C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AE61-B221-47CA-A299-92448747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F424-452A-4DD4-B8F3-65CFD18F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36FC7-EF89-4E75-A1FD-C16559AA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D9F0-DA74-4C17-94E0-4BFAB4F0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1454-A0CE-49BD-8940-51EF3FA2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BCE9-1084-4E22-B982-67592DF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C1B7-B7B2-4F92-B9B5-3DD277418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85F8-40C5-4279-A8D5-65E6F8EF9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89330-AEB4-4E98-873A-A1594A1E77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9000" y="4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Homophonic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8844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 Homophonic worksheet will allow you to run a frequency breakdown of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60480" y="3070080"/>
            <a:ext cx="5456160" cy="358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3000" y="2506680"/>
            <a:ext cx="1149480" cy="646200"/>
          </a:xfrm>
          <a:prstGeom prst="wedgeRoundRectCallout">
            <a:avLst>
              <a:gd name="adj1" fmla="val -46134"/>
              <a:gd name="adj2" fmla="val 6842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Fr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6491-E48A-4A03-81AC-6895888907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 Possible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5680" y="2120760"/>
            <a:ext cx="829476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Possible Word window allows you to enter a known word and CAP will search for possible number matches based on three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number will not match two or more different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letter will not match two different numbers in the sam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wo different letters match two different numbers in the same range, the difference between the numbers will match the difference between the two letters in their alphabet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6F62-62F1-4AE9-95B6-75B4F46E3C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Work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ed matches discovered in the Possible Word window can be entered into the worksheet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plaintext will be displayed and can be evalu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3C9D-FFAE-495D-9779-E133C7EA92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7T00:07:55Z</dcterms:modified>
  <cp:revision>74</cp:revision>
  <dc:subject/>
  <dc:title>CAP Cryptographic Analysis Program</dc:title>
</cp:coreProperties>
</file>