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88A0-C8F5-4415-8245-7BCC2572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3C8E-0556-41E4-A047-4760C06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B1C2-80A3-4FF0-9FD2-A2FF5494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08F6-01D4-4269-8213-62737239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2C05-6E53-440E-85B0-A27A141C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60E9-277B-4432-B04C-42897A0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9880-D0D8-4D9F-8622-B3A8E7DD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0242-398F-4950-8F94-54BC4F7A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1613-BA2E-4420-BD56-23CDB5AF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0391-8ADE-45B9-A86D-2AC9E1E4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B1AD-F248-4268-8701-AE3840A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462B-5759-4A28-B8C6-7CBE4AF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71A-430A-44BB-B585-2AEDBCF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8D5D-D6BF-4987-A990-F292C70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07FC-FCA6-429C-84C2-CE3D23E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F2D8-9C7D-41F1-BE55-D7C3E34C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0BB-38F1-4831-8ECD-B386F53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8A5E-AF21-4826-9049-1E1CF8A8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371FB-E939-4447-9F0C-3BB81E1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3656-D727-4681-8BD8-86947BA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CEFE-3CD7-433D-86D4-E5108645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B2FA5-69A7-4C24-8ED8-03DE5F9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8A19-95C6-42D2-948E-40B86ACA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EEED-ECDE-455C-AD1B-AB5D4D7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0D73-DC7F-4271-9566-63717331B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8407-0CF2-4422-ABD4-C71712F21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ing a Double Column Transposition Cipher Help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ptanalysis of a 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eakness of the double column transposition cipher lies in the use of the same pair of keys on several plaintext messages all of the same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the following 4 messages between Bob and Alice were intercep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6480" y="330984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xda aqmue caeon io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6480" y="410040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xbh tqaut iekau wo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6480" y="49197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xbn nqttn cgwoo rt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80" y="5700600"/>
            <a:ext cx="75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exru oqwhe oogao aa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C5F6-6BB2-4593-A333-EC2DE79AEF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all 4 messages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 that is one on top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it as a large anagramm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6120" y="4038480"/>
            <a:ext cx="828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tmai atecb bsbnq xivjb eecqu heikn oxlct sedwn oowqq texda aqmue caeon io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nbt tjliu eeyhq xotbi dttqy dwbml bxooa oweal hoaqp nexbh tqaut iekau wo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at rtwle bocoq xhofb aurqe oxino oxlir defar uhoqe mexbn nqttn cgwoo rt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sbe lymtt ernrq xtnei olfqt lebne uxorb okorl ocmqf iexru oqwhe oogao aa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86880" y="55767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umns of “x” should all go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0080" y="3773520"/>
            <a:ext cx="6057720" cy="295200"/>
            <a:chOff x="2440080" y="3773520"/>
            <a:chExt cx="6057720" cy="295200"/>
          </a:xfrm>
        </p:grpSpPr>
        <p:sp>
          <p:nvSpPr>
            <p:cNvPr id="124" name=""/>
            <p:cNvSpPr/>
            <p:nvPr/>
          </p:nvSpPr>
          <p:spPr>
            <a:xfrm>
              <a:off x="244008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5896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82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97800" y="3773520"/>
              <a:ext cx="0" cy="2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2CD6-0F1A-4497-B514-9A8F00ECC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2500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provides a special anagramming tool for Double Column Transpos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9720" y="2728800"/>
            <a:ext cx="5381640" cy="382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DDFF-CD64-4E65-9B28-D112D48E4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11T02:09:37Z</dcterms:modified>
  <cp:revision>70</cp:revision>
  <dc:subject/>
  <dc:title>CAP Cryptographic Analysis Program</dc:title>
</cp:coreProperties>
</file>