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F5B83-8030-4FC1-AB87-3AC417FB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25AC-D91F-4780-936E-5F120381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81D94-6059-4719-9A0E-E6C4BD71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2EB0-4F83-48D6-8322-738B932C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D42C-C128-44B8-86C3-807D994A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3D68-D044-47DA-BE42-4A357BBB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41AD-3FB5-455E-9C36-072CDCE4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4C65-EECA-4D41-BFF4-1E6B4DF3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D833-A92A-45D9-A9E4-0FE89217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DDB5-5434-4F53-BEC9-AE4B0067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54E0-7BAB-429A-80EF-C447AC5B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EB1D-8308-409E-B9DE-1F68C7FF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731F-C91A-4C70-BA7C-0454FF51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AFB1-419E-4B70-8CD2-C9720A63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2474-7039-4E9B-9254-D5936A69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EEDA-630B-407D-874A-35C0B587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267E-69E6-4030-94D8-F543FF61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C807-0210-4D3E-833E-B57F5141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D56D-5642-4201-B8D7-EBC81F0C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4AA93-745F-41FF-AB97-982B55C6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CB9C5-0B9A-4F66-8BB6-C9A4A970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010E-FEA5-4069-B909-0CC597EE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9D5B-AC4C-44D1-B0C2-975DC7ED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7AF50-696E-4595-8BE0-5E303E15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92B5-AA5C-4370-855F-38BEC9B98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E1CE-BC88-41B0-9254-0790C38362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type of monoalphabetic cipher is called a multiliteral cip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other weak monoalphabetic cipher that is worth examining because it tries to do something unique - it replaces each plaintext letter with a pair of let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ing ciphertext is twice as large as the plaintext and looks very str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C43C0-C76A-42E3-9FCA-7A07B3B527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literal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ltiliterial Cipher key is a 5 x 5 matrix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ve columns and the five rows are each labeled by the same 5 letter keywor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eyword cannot have any repeating lett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phabet is written in the matrix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matrix has only 25 slots but the alphabet has 26 letters, so the letters “i” and “j” occupy the sam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keyword is “codes” then the key matrix be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80000" y="4734000"/>
            <a:ext cx="182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b c d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 g h i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 m n o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 r s t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 w x y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66800" y="4419720"/>
            <a:ext cx="2139480" cy="2275920"/>
            <a:chOff x="2566800" y="4419720"/>
            <a:chExt cx="2139480" cy="2275920"/>
          </a:xfrm>
        </p:grpSpPr>
        <p:sp>
          <p:nvSpPr>
            <p:cNvPr id="119" name=""/>
            <p:cNvSpPr/>
            <p:nvPr/>
          </p:nvSpPr>
          <p:spPr>
            <a:xfrm>
              <a:off x="2879640" y="441972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 o d e 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76160" y="4724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04840" y="4809960"/>
              <a:ext cx="0" cy="18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76160" y="5095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76160" y="5476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66800" y="5829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76160" y="6200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04840" y="4800240"/>
              <a:ext cx="172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889600" y="4857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  e  l 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7760" y="51912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d cs dc 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36880" y="4830840"/>
            <a:ext cx="167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36880" y="4830840"/>
            <a:ext cx="0" cy="174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8520" y="533556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4AD5-7E15-41B0-AF2B-F29278E84A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7T02:47:38Z</dcterms:modified>
  <cp:revision>48</cp:revision>
  <dc:subject/>
  <dc:title>CAP Cryptographic Analysis Program</dc:title>
</cp:coreProperties>
</file>