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7D486-2BE2-4904-A5F7-779A7303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3FC73-463D-4F19-9C37-080D52B8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F09A-61B4-4E80-AE07-9A505A6C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83101-BC02-450E-9221-B5B8E2D2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6BC2-A606-41ED-9F24-EF024663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B3EB-63C8-4231-95C3-766794BD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BC95-275E-4354-B4C5-CED778FB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C6D8-F79B-45EB-8402-D7E510A6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E59B-7546-4CCE-B5FF-6051CEFB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1122-6670-4DEC-A473-1F620D1B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7062-07D5-4E03-B94D-F3919BCC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25E84-3B52-4B71-A09E-725A8954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2624-A574-4290-A690-B08EF5FB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7AD8-EE16-45AA-BD4F-0DCBD4BE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2947-81FB-4A29-A660-CD680701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8087-21F0-4418-A3E3-FBF2D43F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735E-1ACF-4311-B1D5-4E057595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2F97F-2285-449D-B81C-60ED72E3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EA23-D921-4F06-BD81-D77F7126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92A6D-C6E9-48EF-A685-9E582B19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B8B1-B51E-4042-811C-6E141E60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01931-7E6A-4CE9-ACB5-F8FB62CD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733B8-6078-4211-892E-6AFB13FA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FF439-FAAB-4B99-90B2-120CDC1E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C65B-73FB-467A-B6EF-BE3FE931BF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4C2E-629B-4C65-8400-6756FA0BF9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umn Transposi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5360" y="1953720"/>
            <a:ext cx="7647120" cy="27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plaintext into a matrix by rows, then generate the ciphertext by selecting the columns in a given ord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given the plaintext “encryption algorithms” and a 5x4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2049840" y="4952880"/>
            <a:ext cx="272160" cy="278280"/>
            <a:chOff x="2049840" y="4952880"/>
            <a:chExt cx="272160" cy="278280"/>
          </a:xfrm>
        </p:grpSpPr>
        <p:sp>
          <p:nvSpPr>
            <p:cNvPr id="116" name=""/>
            <p:cNvSpPr/>
            <p:nvPr/>
          </p:nvSpPr>
          <p:spPr>
            <a:xfrm>
              <a:off x="205416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984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783080" y="4952880"/>
            <a:ext cx="272160" cy="278280"/>
            <a:chOff x="1783080" y="4952880"/>
            <a:chExt cx="272160" cy="278280"/>
          </a:xfrm>
        </p:grpSpPr>
        <p:sp>
          <p:nvSpPr>
            <p:cNvPr id="119" name=""/>
            <p:cNvSpPr/>
            <p:nvPr/>
          </p:nvSpPr>
          <p:spPr>
            <a:xfrm>
              <a:off x="178740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8308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526040" y="4952880"/>
            <a:ext cx="272160" cy="278280"/>
            <a:chOff x="1526040" y="4952880"/>
            <a:chExt cx="272160" cy="278280"/>
          </a:xfrm>
        </p:grpSpPr>
        <p:sp>
          <p:nvSpPr>
            <p:cNvPr id="122" name=""/>
            <p:cNvSpPr/>
            <p:nvPr/>
          </p:nvSpPr>
          <p:spPr>
            <a:xfrm>
              <a:off x="1530360" y="495288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604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249560" y="4952880"/>
            <a:ext cx="272160" cy="278280"/>
            <a:chOff x="1249560" y="4952880"/>
            <a:chExt cx="272160" cy="278280"/>
          </a:xfrm>
        </p:grpSpPr>
        <p:sp>
          <p:nvSpPr>
            <p:cNvPr id="125" name=""/>
            <p:cNvSpPr/>
            <p:nvPr/>
          </p:nvSpPr>
          <p:spPr>
            <a:xfrm>
              <a:off x="1253880" y="495288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49560" y="49546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049840" y="5219640"/>
            <a:ext cx="272160" cy="277920"/>
            <a:chOff x="2049840" y="5219640"/>
            <a:chExt cx="272160" cy="277920"/>
          </a:xfrm>
        </p:grpSpPr>
        <p:sp>
          <p:nvSpPr>
            <p:cNvPr id="128" name=""/>
            <p:cNvSpPr/>
            <p:nvPr/>
          </p:nvSpPr>
          <p:spPr>
            <a:xfrm>
              <a:off x="205416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4984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783080" y="5219640"/>
            <a:ext cx="272160" cy="277920"/>
            <a:chOff x="1783080" y="5219640"/>
            <a:chExt cx="272160" cy="277920"/>
          </a:xfrm>
        </p:grpSpPr>
        <p:sp>
          <p:nvSpPr>
            <p:cNvPr id="131" name=""/>
            <p:cNvSpPr/>
            <p:nvPr/>
          </p:nvSpPr>
          <p:spPr>
            <a:xfrm>
              <a:off x="178740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8308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526040" y="5219640"/>
            <a:ext cx="272160" cy="277920"/>
            <a:chOff x="1526040" y="5219640"/>
            <a:chExt cx="272160" cy="277920"/>
          </a:xfrm>
        </p:grpSpPr>
        <p:sp>
          <p:nvSpPr>
            <p:cNvPr id="134" name=""/>
            <p:cNvSpPr/>
            <p:nvPr/>
          </p:nvSpPr>
          <p:spPr>
            <a:xfrm>
              <a:off x="1530360" y="521964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604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249560" y="5219640"/>
            <a:ext cx="272160" cy="277920"/>
            <a:chOff x="1249560" y="5219640"/>
            <a:chExt cx="272160" cy="277920"/>
          </a:xfrm>
        </p:grpSpPr>
        <p:sp>
          <p:nvSpPr>
            <p:cNvPr id="137" name=""/>
            <p:cNvSpPr/>
            <p:nvPr/>
          </p:nvSpPr>
          <p:spPr>
            <a:xfrm>
              <a:off x="1253880" y="521964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49560" y="522108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049840" y="5486400"/>
            <a:ext cx="272160" cy="277920"/>
            <a:chOff x="2049840" y="5486400"/>
            <a:chExt cx="272160" cy="277920"/>
          </a:xfrm>
        </p:grpSpPr>
        <p:sp>
          <p:nvSpPr>
            <p:cNvPr id="140" name=""/>
            <p:cNvSpPr/>
            <p:nvPr/>
          </p:nvSpPr>
          <p:spPr>
            <a:xfrm>
              <a:off x="205416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4984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783080" y="5486400"/>
            <a:ext cx="272160" cy="277920"/>
            <a:chOff x="1783080" y="5486400"/>
            <a:chExt cx="272160" cy="277920"/>
          </a:xfrm>
        </p:grpSpPr>
        <p:sp>
          <p:nvSpPr>
            <p:cNvPr id="143" name=""/>
            <p:cNvSpPr/>
            <p:nvPr/>
          </p:nvSpPr>
          <p:spPr>
            <a:xfrm>
              <a:off x="178740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308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6040" y="5486400"/>
            <a:ext cx="272160" cy="277920"/>
            <a:chOff x="1526040" y="5486400"/>
            <a:chExt cx="272160" cy="277920"/>
          </a:xfrm>
        </p:grpSpPr>
        <p:sp>
          <p:nvSpPr>
            <p:cNvPr id="146" name=""/>
            <p:cNvSpPr/>
            <p:nvPr/>
          </p:nvSpPr>
          <p:spPr>
            <a:xfrm>
              <a:off x="1530360" y="548640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2604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249560" y="5486400"/>
            <a:ext cx="272160" cy="277920"/>
            <a:chOff x="1249560" y="5486400"/>
            <a:chExt cx="272160" cy="277920"/>
          </a:xfrm>
        </p:grpSpPr>
        <p:sp>
          <p:nvSpPr>
            <p:cNvPr id="149" name=""/>
            <p:cNvSpPr/>
            <p:nvPr/>
          </p:nvSpPr>
          <p:spPr>
            <a:xfrm>
              <a:off x="1253880" y="548640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9560" y="54878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049840" y="5753160"/>
            <a:ext cx="272160" cy="277920"/>
            <a:chOff x="2049840" y="5753160"/>
            <a:chExt cx="272160" cy="277920"/>
          </a:xfrm>
        </p:grpSpPr>
        <p:sp>
          <p:nvSpPr>
            <p:cNvPr id="152" name=""/>
            <p:cNvSpPr/>
            <p:nvPr/>
          </p:nvSpPr>
          <p:spPr>
            <a:xfrm>
              <a:off x="205416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4984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783080" y="5753160"/>
            <a:ext cx="272160" cy="277920"/>
            <a:chOff x="1783080" y="5753160"/>
            <a:chExt cx="272160" cy="277920"/>
          </a:xfrm>
        </p:grpSpPr>
        <p:sp>
          <p:nvSpPr>
            <p:cNvPr id="155" name=""/>
            <p:cNvSpPr/>
            <p:nvPr/>
          </p:nvSpPr>
          <p:spPr>
            <a:xfrm>
              <a:off x="178740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8308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526040" y="5753160"/>
            <a:ext cx="272160" cy="277920"/>
            <a:chOff x="1526040" y="5753160"/>
            <a:chExt cx="272160" cy="277920"/>
          </a:xfrm>
        </p:grpSpPr>
        <p:sp>
          <p:nvSpPr>
            <p:cNvPr id="158" name=""/>
            <p:cNvSpPr/>
            <p:nvPr/>
          </p:nvSpPr>
          <p:spPr>
            <a:xfrm>
              <a:off x="1530360" y="5753160"/>
              <a:ext cx="26676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604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249560" y="5753160"/>
            <a:ext cx="272160" cy="277920"/>
            <a:chOff x="1249560" y="5753160"/>
            <a:chExt cx="272160" cy="277920"/>
          </a:xfrm>
        </p:grpSpPr>
        <p:sp>
          <p:nvSpPr>
            <p:cNvPr id="161" name=""/>
            <p:cNvSpPr/>
            <p:nvPr/>
          </p:nvSpPr>
          <p:spPr>
            <a:xfrm>
              <a:off x="1253880" y="5753160"/>
              <a:ext cx="266400" cy="26640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49560" y="5754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049840" y="6010200"/>
            <a:ext cx="272160" cy="278280"/>
            <a:chOff x="2049840" y="6010200"/>
            <a:chExt cx="272160" cy="278280"/>
          </a:xfrm>
        </p:grpSpPr>
        <p:sp>
          <p:nvSpPr>
            <p:cNvPr id="164" name=""/>
            <p:cNvSpPr/>
            <p:nvPr/>
          </p:nvSpPr>
          <p:spPr>
            <a:xfrm>
              <a:off x="205416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4984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783080" y="6010200"/>
            <a:ext cx="272160" cy="278280"/>
            <a:chOff x="1783080" y="6010200"/>
            <a:chExt cx="272160" cy="278280"/>
          </a:xfrm>
        </p:grpSpPr>
        <p:sp>
          <p:nvSpPr>
            <p:cNvPr id="167" name=""/>
            <p:cNvSpPr/>
            <p:nvPr/>
          </p:nvSpPr>
          <p:spPr>
            <a:xfrm>
              <a:off x="178740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8308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526040" y="6010200"/>
            <a:ext cx="272160" cy="278280"/>
            <a:chOff x="1526040" y="6010200"/>
            <a:chExt cx="272160" cy="278280"/>
          </a:xfrm>
        </p:grpSpPr>
        <p:sp>
          <p:nvSpPr>
            <p:cNvPr id="170" name=""/>
            <p:cNvSpPr/>
            <p:nvPr/>
          </p:nvSpPr>
          <p:spPr>
            <a:xfrm>
              <a:off x="1530360" y="6010200"/>
              <a:ext cx="26676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604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249560" y="6010200"/>
            <a:ext cx="272160" cy="278280"/>
            <a:chOff x="1249560" y="6010200"/>
            <a:chExt cx="272160" cy="278280"/>
          </a:xfrm>
        </p:grpSpPr>
        <p:sp>
          <p:nvSpPr>
            <p:cNvPr id="173" name=""/>
            <p:cNvSpPr/>
            <p:nvPr/>
          </p:nvSpPr>
          <p:spPr>
            <a:xfrm>
              <a:off x="1253880" y="6010200"/>
              <a:ext cx="266400" cy="266760"/>
            </a:xfrm>
            <a:prstGeom prst="bevel">
              <a:avLst>
                <a:gd name="adj" fmla="val 12500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9560" y="60120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173760" y="5629320"/>
            <a:ext cx="1338480" cy="277920"/>
            <a:chOff x="3173760" y="5629320"/>
            <a:chExt cx="1338480" cy="277920"/>
          </a:xfrm>
        </p:grpSpPr>
        <p:grpSp>
          <p:nvGrpSpPr>
            <p:cNvPr id="176" name=""/>
            <p:cNvGrpSpPr/>
            <p:nvPr/>
          </p:nvGrpSpPr>
          <p:grpSpPr>
            <a:xfrm>
              <a:off x="3983040" y="5629320"/>
              <a:ext cx="272160" cy="277920"/>
              <a:chOff x="3983040" y="5629320"/>
              <a:chExt cx="272160" cy="277920"/>
            </a:xfrm>
          </p:grpSpPr>
          <p:sp>
            <p:nvSpPr>
              <p:cNvPr id="177" name=""/>
              <p:cNvSpPr/>
              <p:nvPr/>
            </p:nvSpPr>
            <p:spPr>
              <a:xfrm>
                <a:off x="3987360" y="562932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304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0080" y="5629320"/>
              <a:ext cx="272160" cy="277920"/>
              <a:chOff x="4240080" y="5629320"/>
              <a:chExt cx="272160" cy="277920"/>
            </a:xfrm>
          </p:grpSpPr>
          <p:sp>
            <p:nvSpPr>
              <p:cNvPr id="180" name=""/>
              <p:cNvSpPr/>
              <p:nvPr/>
            </p:nvSpPr>
            <p:spPr>
              <a:xfrm>
                <a:off x="42444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400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716280" y="5629320"/>
              <a:ext cx="272160" cy="277920"/>
              <a:chOff x="3716280" y="5629320"/>
              <a:chExt cx="272160" cy="277920"/>
            </a:xfrm>
          </p:grpSpPr>
          <p:sp>
            <p:nvSpPr>
              <p:cNvPr id="183" name=""/>
              <p:cNvSpPr/>
              <p:nvPr/>
            </p:nvSpPr>
            <p:spPr>
              <a:xfrm>
                <a:off x="37206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162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449520" y="5629320"/>
              <a:ext cx="272160" cy="277920"/>
              <a:chOff x="3449520" y="5629320"/>
              <a:chExt cx="272160" cy="277920"/>
            </a:xfrm>
          </p:grpSpPr>
          <p:sp>
            <p:nvSpPr>
              <p:cNvPr id="186" name=""/>
              <p:cNvSpPr/>
              <p:nvPr/>
            </p:nvSpPr>
            <p:spPr>
              <a:xfrm>
                <a:off x="34538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495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173760" y="5629320"/>
              <a:ext cx="272160" cy="277920"/>
              <a:chOff x="3173760" y="5629320"/>
              <a:chExt cx="272160" cy="277920"/>
            </a:xfrm>
          </p:grpSpPr>
          <p:sp>
            <p:nvSpPr>
              <p:cNvPr id="189" name=""/>
              <p:cNvSpPr/>
              <p:nvPr/>
            </p:nvSpPr>
            <p:spPr>
              <a:xfrm>
                <a:off x="3178080" y="5629320"/>
                <a:ext cx="26604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737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1233360" y="4657680"/>
            <a:ext cx="1095120" cy="377640"/>
            <a:chOff x="1233360" y="4657680"/>
            <a:chExt cx="1095120" cy="377640"/>
          </a:xfrm>
        </p:grpSpPr>
        <p:sp>
          <p:nvSpPr>
            <p:cNvPr id="192" name=""/>
            <p:cNvSpPr/>
            <p:nvPr/>
          </p:nvSpPr>
          <p:spPr>
            <a:xfrm>
              <a:off x="1233360" y="465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28560" y="465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85600" y="4667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33280" y="4667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169800" y="4867200"/>
            <a:ext cx="477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elect the columns in the order 4 - 2 - 1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78800" y="4095720"/>
            <a:ext cx="1037880" cy="838080"/>
            <a:chOff x="6778800" y="4095720"/>
            <a:chExt cx="1037880" cy="838080"/>
          </a:xfrm>
        </p:grpSpPr>
        <p:sp>
          <p:nvSpPr>
            <p:cNvPr id="198" name=""/>
            <p:cNvSpPr/>
            <p:nvPr/>
          </p:nvSpPr>
          <p:spPr>
            <a:xfrm>
              <a:off x="6868800" y="4095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78800" y="4933800"/>
              <a:ext cx="1037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26280" y="4429080"/>
              <a:ext cx="0" cy="4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773360" y="4952880"/>
            <a:ext cx="280800" cy="1326240"/>
            <a:chOff x="1773360" y="4952880"/>
            <a:chExt cx="280800" cy="1326240"/>
          </a:xfrm>
        </p:grpSpPr>
        <p:grpSp>
          <p:nvGrpSpPr>
            <p:cNvPr id="202" name=""/>
            <p:cNvGrpSpPr/>
            <p:nvPr/>
          </p:nvGrpSpPr>
          <p:grpSpPr>
            <a:xfrm>
              <a:off x="1773360" y="4952880"/>
              <a:ext cx="280800" cy="278280"/>
              <a:chOff x="1773360" y="4952880"/>
              <a:chExt cx="280800" cy="278280"/>
            </a:xfrm>
          </p:grpSpPr>
          <p:sp>
            <p:nvSpPr>
              <p:cNvPr id="203" name=""/>
              <p:cNvSpPr/>
              <p:nvPr/>
            </p:nvSpPr>
            <p:spPr>
              <a:xfrm>
                <a:off x="178740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7336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773360" y="5210280"/>
              <a:ext cx="280800" cy="278280"/>
              <a:chOff x="1773360" y="5210280"/>
              <a:chExt cx="280800" cy="278280"/>
            </a:xfrm>
          </p:grpSpPr>
          <p:sp>
            <p:nvSpPr>
              <p:cNvPr id="206" name=""/>
              <p:cNvSpPr/>
              <p:nvPr/>
            </p:nvSpPr>
            <p:spPr>
              <a:xfrm>
                <a:off x="178740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7336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773360" y="5476680"/>
              <a:ext cx="280800" cy="278280"/>
              <a:chOff x="1773360" y="5476680"/>
              <a:chExt cx="280800" cy="278280"/>
            </a:xfrm>
          </p:grpSpPr>
          <p:sp>
            <p:nvSpPr>
              <p:cNvPr id="209" name=""/>
              <p:cNvSpPr/>
              <p:nvPr/>
            </p:nvSpPr>
            <p:spPr>
              <a:xfrm>
                <a:off x="178740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7336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773360" y="5743440"/>
              <a:ext cx="280800" cy="278280"/>
              <a:chOff x="1773360" y="5743440"/>
              <a:chExt cx="280800" cy="278280"/>
            </a:xfrm>
          </p:grpSpPr>
          <p:sp>
            <p:nvSpPr>
              <p:cNvPr id="212" name=""/>
              <p:cNvSpPr/>
              <p:nvPr/>
            </p:nvSpPr>
            <p:spPr>
              <a:xfrm>
                <a:off x="178740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7336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1773360" y="6000840"/>
              <a:ext cx="280800" cy="278280"/>
              <a:chOff x="1773360" y="6000840"/>
              <a:chExt cx="280800" cy="278280"/>
            </a:xfrm>
          </p:grpSpPr>
          <p:sp>
            <p:nvSpPr>
              <p:cNvPr id="215" name=""/>
              <p:cNvSpPr/>
              <p:nvPr/>
            </p:nvSpPr>
            <p:spPr>
              <a:xfrm>
                <a:off x="178740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7336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2049840" y="4952880"/>
            <a:ext cx="280080" cy="1326240"/>
            <a:chOff x="2049840" y="4952880"/>
            <a:chExt cx="280080" cy="1326240"/>
          </a:xfrm>
        </p:grpSpPr>
        <p:grpSp>
          <p:nvGrpSpPr>
            <p:cNvPr id="218" name=""/>
            <p:cNvGrpSpPr/>
            <p:nvPr/>
          </p:nvGrpSpPr>
          <p:grpSpPr>
            <a:xfrm>
              <a:off x="2049840" y="4952880"/>
              <a:ext cx="280080" cy="278280"/>
              <a:chOff x="2049840" y="4952880"/>
              <a:chExt cx="280080" cy="278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063520" y="49528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04984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49840" y="5210280"/>
              <a:ext cx="280080" cy="278280"/>
              <a:chOff x="2049840" y="5210280"/>
              <a:chExt cx="280080" cy="2782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63520" y="52102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04984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049840" y="5476680"/>
              <a:ext cx="280080" cy="278280"/>
              <a:chOff x="2049840" y="5476680"/>
              <a:chExt cx="280080" cy="278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063520" y="547668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4984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049840" y="5743440"/>
              <a:ext cx="280080" cy="278280"/>
              <a:chOff x="2049840" y="5743440"/>
              <a:chExt cx="280080" cy="278280"/>
            </a:xfrm>
          </p:grpSpPr>
          <p:sp>
            <p:nvSpPr>
              <p:cNvPr id="228" name=""/>
              <p:cNvSpPr/>
              <p:nvPr/>
            </p:nvSpPr>
            <p:spPr>
              <a:xfrm>
                <a:off x="2063520" y="574344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04984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049840" y="6000840"/>
              <a:ext cx="280080" cy="278280"/>
              <a:chOff x="2049840" y="6000840"/>
              <a:chExt cx="280080" cy="278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063520" y="6000840"/>
                <a:ext cx="26640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4984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2390760" y="5457960"/>
            <a:ext cx="657360" cy="209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21320" y="5629320"/>
            <a:ext cx="1339200" cy="277920"/>
            <a:chOff x="4621320" y="5629320"/>
            <a:chExt cx="1339200" cy="277920"/>
          </a:xfrm>
        </p:grpSpPr>
        <p:grpSp>
          <p:nvGrpSpPr>
            <p:cNvPr id="235" name=""/>
            <p:cNvGrpSpPr/>
            <p:nvPr/>
          </p:nvGrpSpPr>
          <p:grpSpPr>
            <a:xfrm>
              <a:off x="5430960" y="5629320"/>
              <a:ext cx="272160" cy="277920"/>
              <a:chOff x="5430960" y="5629320"/>
              <a:chExt cx="272160" cy="277920"/>
            </a:xfrm>
          </p:grpSpPr>
          <p:sp>
            <p:nvSpPr>
              <p:cNvPr id="236" name=""/>
              <p:cNvSpPr/>
              <p:nvPr/>
            </p:nvSpPr>
            <p:spPr>
              <a:xfrm>
                <a:off x="543528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309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688360" y="5629320"/>
              <a:ext cx="272160" cy="277920"/>
              <a:chOff x="5688360" y="5629320"/>
              <a:chExt cx="272160" cy="277920"/>
            </a:xfrm>
          </p:grpSpPr>
          <p:sp>
            <p:nvSpPr>
              <p:cNvPr id="239" name=""/>
              <p:cNvSpPr/>
              <p:nvPr/>
            </p:nvSpPr>
            <p:spPr>
              <a:xfrm>
                <a:off x="56926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883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164560" y="5629320"/>
              <a:ext cx="272160" cy="277920"/>
              <a:chOff x="5164560" y="5629320"/>
              <a:chExt cx="272160" cy="277920"/>
            </a:xfrm>
          </p:grpSpPr>
          <p:sp>
            <p:nvSpPr>
              <p:cNvPr id="242" name=""/>
              <p:cNvSpPr/>
              <p:nvPr/>
            </p:nvSpPr>
            <p:spPr>
              <a:xfrm>
                <a:off x="51688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1645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4897800" y="5629320"/>
              <a:ext cx="272160" cy="277920"/>
              <a:chOff x="4897800" y="5629320"/>
              <a:chExt cx="272160" cy="277920"/>
            </a:xfrm>
          </p:grpSpPr>
          <p:sp>
            <p:nvSpPr>
              <p:cNvPr id="245" name=""/>
              <p:cNvSpPr/>
              <p:nvPr/>
            </p:nvSpPr>
            <p:spPr>
              <a:xfrm>
                <a:off x="490212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9780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4621320" y="5629320"/>
              <a:ext cx="272160" cy="277920"/>
              <a:chOff x="4621320" y="5629320"/>
              <a:chExt cx="272160" cy="277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6256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213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6069240" y="5629320"/>
            <a:ext cx="1339200" cy="277920"/>
            <a:chOff x="6069240" y="5629320"/>
            <a:chExt cx="1339200" cy="277920"/>
          </a:xfrm>
        </p:grpSpPr>
        <p:grpSp>
          <p:nvGrpSpPr>
            <p:cNvPr id="251" name=""/>
            <p:cNvGrpSpPr/>
            <p:nvPr/>
          </p:nvGrpSpPr>
          <p:grpSpPr>
            <a:xfrm>
              <a:off x="6878880" y="5629320"/>
              <a:ext cx="272160" cy="277920"/>
              <a:chOff x="6878880" y="5629320"/>
              <a:chExt cx="272160" cy="277920"/>
            </a:xfrm>
          </p:grpSpPr>
          <p:sp>
            <p:nvSpPr>
              <p:cNvPr id="252" name=""/>
              <p:cNvSpPr/>
              <p:nvPr/>
            </p:nvSpPr>
            <p:spPr>
              <a:xfrm>
                <a:off x="688320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788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136280" y="5629320"/>
              <a:ext cx="272160" cy="277920"/>
              <a:chOff x="7136280" y="5629320"/>
              <a:chExt cx="272160" cy="277920"/>
            </a:xfrm>
          </p:grpSpPr>
          <p:sp>
            <p:nvSpPr>
              <p:cNvPr id="255" name=""/>
              <p:cNvSpPr/>
              <p:nvPr/>
            </p:nvSpPr>
            <p:spPr>
              <a:xfrm>
                <a:off x="714060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362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6612480" y="5629320"/>
              <a:ext cx="272160" cy="277920"/>
              <a:chOff x="6612480" y="5629320"/>
              <a:chExt cx="272160" cy="277920"/>
            </a:xfrm>
          </p:grpSpPr>
          <p:sp>
            <p:nvSpPr>
              <p:cNvPr id="258" name=""/>
              <p:cNvSpPr/>
              <p:nvPr/>
            </p:nvSpPr>
            <p:spPr>
              <a:xfrm>
                <a:off x="661680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61248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345720" y="5629320"/>
              <a:ext cx="272160" cy="277920"/>
              <a:chOff x="6345720" y="5629320"/>
              <a:chExt cx="272160" cy="277920"/>
            </a:xfrm>
          </p:grpSpPr>
          <p:sp>
            <p:nvSpPr>
              <p:cNvPr id="261" name=""/>
              <p:cNvSpPr/>
              <p:nvPr/>
            </p:nvSpPr>
            <p:spPr>
              <a:xfrm>
                <a:off x="635004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3457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6069240" y="5629320"/>
              <a:ext cx="272160" cy="277920"/>
              <a:chOff x="6069240" y="5629320"/>
              <a:chExt cx="272160" cy="277920"/>
            </a:xfrm>
          </p:grpSpPr>
          <p:sp>
            <p:nvSpPr>
              <p:cNvPr id="264" name=""/>
              <p:cNvSpPr/>
              <p:nvPr/>
            </p:nvSpPr>
            <p:spPr>
              <a:xfrm>
                <a:off x="607356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6924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"/>
          <p:cNvGrpSpPr/>
          <p:nvPr/>
        </p:nvGrpSpPr>
        <p:grpSpPr>
          <a:xfrm>
            <a:off x="7526520" y="5629320"/>
            <a:ext cx="1339200" cy="277920"/>
            <a:chOff x="7526520" y="5629320"/>
            <a:chExt cx="1339200" cy="277920"/>
          </a:xfrm>
        </p:grpSpPr>
        <p:grpSp>
          <p:nvGrpSpPr>
            <p:cNvPr id="267" name=""/>
            <p:cNvGrpSpPr/>
            <p:nvPr/>
          </p:nvGrpSpPr>
          <p:grpSpPr>
            <a:xfrm>
              <a:off x="8336160" y="5629320"/>
              <a:ext cx="272160" cy="277920"/>
              <a:chOff x="8336160" y="5629320"/>
              <a:chExt cx="272160" cy="277920"/>
            </a:xfrm>
          </p:grpSpPr>
          <p:sp>
            <p:nvSpPr>
              <p:cNvPr id="268" name=""/>
              <p:cNvSpPr/>
              <p:nvPr/>
            </p:nvSpPr>
            <p:spPr>
              <a:xfrm>
                <a:off x="834048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361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8593560" y="5629320"/>
              <a:ext cx="272160" cy="277920"/>
              <a:chOff x="8593560" y="5629320"/>
              <a:chExt cx="272160" cy="277920"/>
            </a:xfrm>
          </p:grpSpPr>
          <p:sp>
            <p:nvSpPr>
              <p:cNvPr id="271" name=""/>
              <p:cNvSpPr/>
              <p:nvPr/>
            </p:nvSpPr>
            <p:spPr>
              <a:xfrm>
                <a:off x="85978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935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8069760" y="5629320"/>
              <a:ext cx="272160" cy="277920"/>
              <a:chOff x="8069760" y="5629320"/>
              <a:chExt cx="272160" cy="277920"/>
            </a:xfrm>
          </p:grpSpPr>
          <p:sp>
            <p:nvSpPr>
              <p:cNvPr id="274" name=""/>
              <p:cNvSpPr/>
              <p:nvPr/>
            </p:nvSpPr>
            <p:spPr>
              <a:xfrm>
                <a:off x="807408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6976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7803000" y="5629320"/>
              <a:ext cx="272160" cy="277920"/>
              <a:chOff x="7803000" y="5629320"/>
              <a:chExt cx="272160" cy="277920"/>
            </a:xfrm>
          </p:grpSpPr>
          <p:sp>
            <p:nvSpPr>
              <p:cNvPr id="277" name=""/>
              <p:cNvSpPr/>
              <p:nvPr/>
            </p:nvSpPr>
            <p:spPr>
              <a:xfrm>
                <a:off x="7807320" y="5629320"/>
                <a:ext cx="26676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80300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526520" y="5629320"/>
              <a:ext cx="272160" cy="277920"/>
              <a:chOff x="7526520" y="5629320"/>
              <a:chExt cx="272160" cy="277920"/>
            </a:xfrm>
          </p:grpSpPr>
          <p:sp>
            <p:nvSpPr>
              <p:cNvPr id="280" name=""/>
              <p:cNvSpPr/>
              <p:nvPr/>
            </p:nvSpPr>
            <p:spPr>
              <a:xfrm>
                <a:off x="7530840" y="5629320"/>
                <a:ext cx="266400" cy="266400"/>
              </a:xfrm>
              <a:prstGeom prst="bevel">
                <a:avLst>
                  <a:gd name="adj" fmla="val 12500"/>
                </a:avLst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26520" y="563076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506600" y="4952880"/>
            <a:ext cx="280800" cy="1326240"/>
            <a:chOff x="1506600" y="4952880"/>
            <a:chExt cx="280800" cy="1326240"/>
          </a:xfrm>
        </p:grpSpPr>
        <p:grpSp>
          <p:nvGrpSpPr>
            <p:cNvPr id="283" name=""/>
            <p:cNvGrpSpPr/>
            <p:nvPr/>
          </p:nvGrpSpPr>
          <p:grpSpPr>
            <a:xfrm>
              <a:off x="1506600" y="4952880"/>
              <a:ext cx="280800" cy="278280"/>
              <a:chOff x="1506600" y="4952880"/>
              <a:chExt cx="280800" cy="278280"/>
            </a:xfrm>
          </p:grpSpPr>
          <p:sp>
            <p:nvSpPr>
              <p:cNvPr id="284" name=""/>
              <p:cNvSpPr/>
              <p:nvPr/>
            </p:nvSpPr>
            <p:spPr>
              <a:xfrm>
                <a:off x="152064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0660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506600" y="5210280"/>
              <a:ext cx="280800" cy="278280"/>
              <a:chOff x="1506600" y="5210280"/>
              <a:chExt cx="280800" cy="278280"/>
            </a:xfrm>
          </p:grpSpPr>
          <p:sp>
            <p:nvSpPr>
              <p:cNvPr id="287" name=""/>
              <p:cNvSpPr/>
              <p:nvPr/>
            </p:nvSpPr>
            <p:spPr>
              <a:xfrm>
                <a:off x="152064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0660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506600" y="5476680"/>
              <a:ext cx="280800" cy="278280"/>
              <a:chOff x="1506600" y="5476680"/>
              <a:chExt cx="280800" cy="278280"/>
            </a:xfrm>
          </p:grpSpPr>
          <p:sp>
            <p:nvSpPr>
              <p:cNvPr id="290" name=""/>
              <p:cNvSpPr/>
              <p:nvPr/>
            </p:nvSpPr>
            <p:spPr>
              <a:xfrm>
                <a:off x="152064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50660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506600" y="5743440"/>
              <a:ext cx="280800" cy="278280"/>
              <a:chOff x="1506600" y="5743440"/>
              <a:chExt cx="280800" cy="278280"/>
            </a:xfrm>
          </p:grpSpPr>
          <p:sp>
            <p:nvSpPr>
              <p:cNvPr id="293" name=""/>
              <p:cNvSpPr/>
              <p:nvPr/>
            </p:nvSpPr>
            <p:spPr>
              <a:xfrm>
                <a:off x="152064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0660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506600" y="6000840"/>
              <a:ext cx="280800" cy="278280"/>
              <a:chOff x="1506600" y="6000840"/>
              <a:chExt cx="280800" cy="278280"/>
            </a:xfrm>
          </p:grpSpPr>
          <p:sp>
            <p:nvSpPr>
              <p:cNvPr id="296" name=""/>
              <p:cNvSpPr/>
              <p:nvPr/>
            </p:nvSpPr>
            <p:spPr>
              <a:xfrm>
                <a:off x="152064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0660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1733400" y="5133960"/>
            <a:ext cx="287676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240200" y="4952880"/>
            <a:ext cx="280800" cy="1326240"/>
            <a:chOff x="1240200" y="4952880"/>
            <a:chExt cx="280800" cy="1326240"/>
          </a:xfrm>
        </p:grpSpPr>
        <p:grpSp>
          <p:nvGrpSpPr>
            <p:cNvPr id="300" name=""/>
            <p:cNvGrpSpPr/>
            <p:nvPr/>
          </p:nvGrpSpPr>
          <p:grpSpPr>
            <a:xfrm>
              <a:off x="1240200" y="4952880"/>
              <a:ext cx="280800" cy="278280"/>
              <a:chOff x="1240200" y="4952880"/>
              <a:chExt cx="280800" cy="278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254240" y="49528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240200" y="49546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240200" y="5210280"/>
              <a:ext cx="280800" cy="278280"/>
              <a:chOff x="1240200" y="5210280"/>
              <a:chExt cx="280800" cy="278280"/>
            </a:xfrm>
          </p:grpSpPr>
          <p:sp>
            <p:nvSpPr>
              <p:cNvPr id="304" name=""/>
              <p:cNvSpPr/>
              <p:nvPr/>
            </p:nvSpPr>
            <p:spPr>
              <a:xfrm>
                <a:off x="1254240" y="52102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240200" y="52120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240200" y="5476680"/>
              <a:ext cx="280800" cy="278280"/>
              <a:chOff x="1240200" y="5476680"/>
              <a:chExt cx="280800" cy="278280"/>
            </a:xfrm>
          </p:grpSpPr>
          <p:sp>
            <p:nvSpPr>
              <p:cNvPr id="307" name=""/>
              <p:cNvSpPr/>
              <p:nvPr/>
            </p:nvSpPr>
            <p:spPr>
              <a:xfrm>
                <a:off x="1254240" y="547668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240200" y="547848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40200" y="5743440"/>
              <a:ext cx="280800" cy="278280"/>
              <a:chOff x="1240200" y="5743440"/>
              <a:chExt cx="280800" cy="278280"/>
            </a:xfrm>
          </p:grpSpPr>
          <p:sp>
            <p:nvSpPr>
              <p:cNvPr id="310" name=""/>
              <p:cNvSpPr/>
              <p:nvPr/>
            </p:nvSpPr>
            <p:spPr>
              <a:xfrm>
                <a:off x="1254240" y="57434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240200" y="57452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240200" y="6000840"/>
              <a:ext cx="280800" cy="278280"/>
              <a:chOff x="1240200" y="6000840"/>
              <a:chExt cx="280800" cy="278280"/>
            </a:xfrm>
          </p:grpSpPr>
          <p:sp>
            <p:nvSpPr>
              <p:cNvPr id="313" name=""/>
              <p:cNvSpPr/>
              <p:nvPr/>
            </p:nvSpPr>
            <p:spPr>
              <a:xfrm>
                <a:off x="1254240" y="6000840"/>
                <a:ext cx="266760" cy="266760"/>
              </a:xfrm>
              <a:prstGeom prst="bevel">
                <a:avLst>
                  <a:gd name="adj" fmla="val 125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240200" y="6002640"/>
                <a:ext cx="272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1486080" y="5019840"/>
            <a:ext cx="455292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00160" y="5095800"/>
            <a:ext cx="548640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CEEA2-FA4D-4A5D-8B3B-D589F5FB98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31840" y="2163600"/>
            <a:ext cx="8686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key for a column transposition is the number of columns and the order in which they are se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94760" y="3968640"/>
            <a:ext cx="48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can be specified by a key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55040" y="4741920"/>
            <a:ext cx="576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length of the keyword is the number of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360" y="5389560"/>
            <a:ext cx="563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order of the letters in the keyword determ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he order in which the columns are s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C43C0-40E5-4EEA-B745-B4423B91E7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40096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the keyword “general” defines a column transposition with 7 colum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the order of columns assign each letter a number based on its order in the alp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13560" y="48960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g e n e r a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5424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0144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0628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32556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34960" y="549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01640" y="55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5C29-9515-422E-8B2A-5AA0AB51E8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1160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elect Column Transposition, CAP presents a key wind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081320" y="2263680"/>
            <a:ext cx="4591080" cy="408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D797-6EE4-49A3-8510-0C711AF055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5T03:20:09Z</dcterms:modified>
  <cp:revision>72</cp:revision>
  <dc:subject/>
  <dc:title>CAP Cryptographic Analysis Program</dc:title>
</cp:coreProperties>
</file>