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339C-5E08-42C2-8CB3-E8BCA76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3F6E-99D5-4F50-8CC4-66C8D429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5EFE-858A-47A3-AD68-35E4C45B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D57E-8E33-4410-A552-39D84C95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610-C4CD-4475-8D14-A8203065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213-499E-4C60-97E9-18556B53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6442-B42A-4B7B-8202-89F740B3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BD4D-D5F1-4794-A018-DF52B9CF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FFE2-18AA-4628-B960-C9E8996F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EC7-89AF-49C6-AA28-517F4CA5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BCB0-FF56-4951-83DD-2F7F532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7320-098F-467D-8B03-A894AABE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EE1-60FE-4ABA-ABB0-F13E6D3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60A4-E70D-4A9F-9122-E2BA3202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A64F-18E1-4000-ABB6-707F28EE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85B3-2DDF-4535-BC67-8F488A58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59D3-75B2-4329-A242-2D19700D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958A-5FA1-4C51-B130-04A096E9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311B-87C0-4000-9103-A933965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8A196-ED6D-4B29-9BE3-2FABF0D8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DA8A-6F6B-4090-A4BA-4489851E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8B1C-97BB-41A0-B987-ACE101D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302E-629B-4DBC-8D9E-D29446C9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6399-7DF8-42D0-AD95-8227977E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26D9-47E0-42BF-AA62-1E6A6763A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CD3-4863-40AD-943E-01CDBA14F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Playfai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 Playfair Cip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87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characteristics of Playfair ciphertext that can be useful in identifying it as a Playfai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it is a substitution system, the rare consonants j, k, q, x, and z will appear in higher frequencies than plaintext and digraphs containing these consonants will appear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n even number of letters in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iphertext is broken up into digrams, doubled letters such as SS, EE, MM, . . . will not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53E8-2BD1-4FFE-AB52-8DBA12F22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4360" y="20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680" y="1346040"/>
            <a:ext cx="7456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help in the process of identifying a Playfair (or other polygraphic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5240" y="2200320"/>
            <a:ext cx="1193760" cy="465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67000" y="2838600"/>
            <a:ext cx="5742000" cy="3806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71560" y="3067200"/>
            <a:ext cx="1095480" cy="657000"/>
          </a:xfrm>
          <a:prstGeom prst="wedgeRoundRectCallout">
            <a:avLst>
              <a:gd name="adj1" fmla="val -42319"/>
              <a:gd name="adj2" fmla="val 67634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87FA-3A78-4D49-A3A2-8B3AF6726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7T03:22:54Z</dcterms:modified>
  <cp:revision>65</cp:revision>
  <dc:subject/>
  <dc:title>CAP Cryptographic Analysis Program</dc:title>
</cp:coreProperties>
</file>